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DF2E-7289-4AB3-9C80-5F0841B7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4073-FEBC-4466-A43A-C1819AFB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069-9DEC-40F8-A9D4-F2F1CA76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487-1079-4225-B75D-9D3F463E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3F6-AB8F-4014-8F2D-FBAE0D14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0BF-0C65-4B2D-ACBB-C98B27A9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821-CC92-4A2B-86A5-D8C7FBF3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94C-73BC-4C6F-8ED2-3768665F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791-ABB6-416D-B689-EBDBC794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C7D3-2007-4998-9640-2733ABA8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F18-F983-404A-B9F4-6F74B111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7F2D-D82A-4CFF-BDE6-6CC2DE97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A370-81F6-4957-BB59-8DCD9858F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765000"/>
            <a:ext cx="6265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C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00360" y="2708280"/>
            <a:ext cx="338436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63640" y="4508640"/>
            <a:ext cx="5688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OI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2843280" y="61657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t 3D (Presentati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4414680"/>
            <a:ext cx="1871640" cy="1783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9640" y="1916280"/>
            <a:ext cx="8064720" cy="2089080"/>
          </a:xfrm>
          <a:custGeom>
            <a:avLst/>
            <a:gdLst>
              <a:gd name="textAreaLeft" fmla="*/ 0 w 8064720"/>
              <a:gd name="textAreaRight" fmla="*/ 8065080 w 8064720"/>
              <a:gd name="textAreaTop" fmla="*/ 270720 h 2089080"/>
              <a:gd name="textAreaBottom" fmla="*/ 181836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ff99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know that rocks can be tested for perme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4360" y="4221000"/>
            <a:ext cx="160992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32720" y="3357720"/>
            <a:ext cx="1822320" cy="320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08720" y="2565360"/>
            <a:ext cx="432000" cy="576360"/>
          </a:xfrm>
          <a:prstGeom prst="downArrow">
            <a:avLst>
              <a:gd name="adj1" fmla="val 50000"/>
              <a:gd name="adj2" fmla="val 333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88000" y="126828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1413000"/>
            <a:ext cx="251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r Re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dhall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1484280"/>
            <a:ext cx="5256360" cy="1224000"/>
          </a:xfrm>
          <a:prstGeom prst="wedgeRoundRectCallout">
            <a:avLst>
              <a:gd name="adj1" fmla="val 63412"/>
              <a:gd name="adj2" fmla="val 261800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the w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meable mean?  Can anyone gu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333360"/>
            <a:ext cx="8280360" cy="9349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know that rocks can be tested for perme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3141720"/>
            <a:ext cx="4249800" cy="1439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meable R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 water to soak thr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4724280"/>
            <a:ext cx="5257800" cy="18734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mperme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o 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low wat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a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r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333360"/>
            <a:ext cx="8280360" cy="9349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know that rocks can be tested for perme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413000"/>
            <a:ext cx="87138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at we are trying to find 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are trying to find out which rocks are permeable and let water through and which rocks don’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at we are going to d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are going to drop 5 drops of water onto a rock sample and observe how quickly the water absor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11280" y="3860640"/>
          <a:ext cx="8137440" cy="2832120"/>
        </p:xfrm>
        <a:graphic>
          <a:graphicData uri="http://schemas.openxmlformats.org/drawingml/2006/table">
            <a:tbl>
              <a:tblPr/>
              <a:tblGrid>
                <a:gridCol w="2035080"/>
                <a:gridCol w="2033640"/>
                <a:gridCol w="2035080"/>
                <a:gridCol w="203364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r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I think will happ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I observ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s why you think the rock is permeable or no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1:48:58Z</dcterms:created>
  <dc:creator>Manager</dc:creator>
  <dc:description/>
  <dc:language>en-US</dc:language>
  <cp:lastModifiedBy>Manager</cp:lastModifiedBy>
  <dcterms:modified xsi:type="dcterms:W3CDTF">2004-12-03T10:53:34Z</dcterms:modified>
  <cp:revision>7</cp:revision>
  <dc:subject/>
  <dc:title>Slide 1</dc:title>
</cp:coreProperties>
</file>