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C3B-BC1E-4F93-BBA3-B751324C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5A5-F3B8-449F-A845-69E97224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600-5843-427F-96F0-7F35E78E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B6B-127F-4AB2-973E-A591D302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F80-12F7-4C92-849B-3860036A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790-0CAE-4954-BABF-914CC6FD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088-D882-4321-A047-591923FA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8C6-6DE8-4843-8663-9093EF1F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4691-170A-42C0-8C94-0A382D9C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F86-C612-4555-8970-1A4DBFB4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177-2670-43E6-BFE6-AC03E7C6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E2D-E9F1-43E6-BDDE-CCBDA769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2114-3D56-4187-984F-A63D50803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aveballard.co.uk/pictures/trumpet.jpg&amp;imgrefurl=http://www.daveballard.co.uk/trumpets.htm&amp;h=377&amp;w=225&amp;sz=14&amp;tbnid=iJRZsCcKQ8sJ:&amp;tbnh=118&amp;tbnw=71&amp;start=14&amp;prev=/images%3Fq%3Dtrumpet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aveballard.co.uk/pictures/trumpet.jpg&amp;imgrefurl=http://www.daveballard.co.uk/trumpets.htm&amp;h=377&amp;w=225&amp;sz=14&amp;tbnid=iJRZsCcKQ8sJ:&amp;tbnh=118&amp;tbnw=71&amp;start=14&amp;prev=/images%3Fq%3Dtrumpet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bruhn.com/rbruhn/Woodwork/Guitar/Guitar-front.jpg&amp;imgrefurl=http://www.rbruhn.com/rbruhn/Woodwork/Guitar/Guitar%2520page.htm&amp;h=648&amp;w=363&amp;sz=151&amp;tbnid=bKY_FhetssMJ:&amp;tbnh=133&amp;tbnw=75&amp;start=24&amp;prev=/images%3Fq%3Dguitar%26start%3D2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bruhn.com/rbruhn/Woodwork/Guitar/Guitar-front.jpg&amp;imgrefurl=http://www.rbruhn.com/rbruhn/Woodwork/Guitar/Guitar%2520page.htm&amp;h=648&amp;w=363&amp;sz=151&amp;tbnid=bKY_FhetssMJ:&amp;tbnh=133&amp;tbnw=75&amp;start=24&amp;prev=/images%3Fq%3Dguitar%26start%3D2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bruhn.com/rbruhn/Woodwork/Guitar/Guitar-front.jpg&amp;imgrefurl=http://www.rbruhn.com/rbruhn/Woodwork/Guitar/Guitar%2520page.htm&amp;h=648&amp;w=363&amp;sz=151&amp;tbnid=bKY_FhetssMJ:&amp;tbnh=133&amp;tbnw=75&amp;start=24&amp;prev=/images%3Fq%3Dguitar%26start%3D2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uatki.com/topsite/members/photob1/Rattle.jpg&amp;imgrefurl=http://www.huatki.com/topsite/members/photob1/photob1_list.html&amp;h=750&amp;w=526&amp;sz=48&amp;tbnid=ajMusty5oBQJ:&amp;tbnh=139&amp;tbnw=98&amp;start=6&amp;prev=/images%3Fq%3Drattle%26hl%3Den%26lr%3D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" Target="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aveballard.co.uk/pictures/trumpet.jpg&amp;imgrefurl=http://www.daveballard.co.uk/trumpets.htm&amp;h=377&amp;w=225&amp;sz=14&amp;tbnid=iJRZsCcKQ8sJ:&amp;tbnh=118&amp;tbnw=71&amp;start=14&amp;prev=/images%3Fq%3Dtrumpet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56000" y="4508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5877000"/>
            <a:ext cx="482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5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7574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2060640"/>
            <a:ext cx="6337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1916280"/>
            <a:ext cx="1355760" cy="2252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35280" y="486900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you get the best sound  out of the trump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198900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08000" y="1916280"/>
            <a:ext cx="1608480" cy="267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292720" y="1916280"/>
            <a:ext cx="1565280" cy="2598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6920" y="1989000"/>
            <a:ext cx="1297080" cy="360360"/>
          </a:xfrm>
          <a:prstGeom prst="rightArrow">
            <a:avLst>
              <a:gd name="adj1" fmla="val 50000"/>
              <a:gd name="adj2" fmla="val 8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4653000"/>
            <a:ext cx="433440" cy="1081080"/>
          </a:xfrm>
          <a:prstGeom prst="upArrow">
            <a:avLst>
              <a:gd name="adj1" fmla="val 50000"/>
              <a:gd name="adj2" fmla="val 623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256536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w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522936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w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494172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on the correct a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5280" y="1773360"/>
            <a:ext cx="1443240" cy="2395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3280" y="4221000"/>
            <a:ext cx="503280" cy="1224000"/>
          </a:xfrm>
          <a:prstGeom prst="upArrow">
            <a:avLst>
              <a:gd name="adj1" fmla="val 50000"/>
              <a:gd name="adj2" fmla="val 60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5640" y="55166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on the trumpet to 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206064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not cor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79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1773360"/>
            <a:ext cx="1658880" cy="2755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08000" y="1628640"/>
            <a:ext cx="2232360" cy="360360"/>
          </a:xfrm>
          <a:prstGeom prst="rightArrow">
            <a:avLst>
              <a:gd name="adj1" fmla="val 50000"/>
              <a:gd name="adj2" fmla="val 1548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2421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4941720"/>
            <a:ext cx="56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ir vibrates when you blow into the mouthpi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295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1989000"/>
            <a:ext cx="619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ill this make a s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852640"/>
            <a:ext cx="1579680" cy="2657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377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1844640"/>
            <a:ext cx="1458720" cy="2586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124000" y="4797360"/>
            <a:ext cx="54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you get the best sound out of a guit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1462320" cy="2592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084720" y="2205000"/>
            <a:ext cx="1339920" cy="237492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1042920" y="2421000"/>
            <a:ext cx="1728720" cy="503280"/>
          </a:xfrm>
          <a:prstGeom prst="rightArrow">
            <a:avLst>
              <a:gd name="adj1" fmla="val 50000"/>
              <a:gd name="adj2" fmla="val 858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4" action="ppaction://hlinksldjump"/>
          </p:cNvPr>
          <p:cNvSpPr/>
          <p:nvPr/>
        </p:nvSpPr>
        <p:spPr>
          <a:xfrm>
            <a:off x="6877080" y="3716280"/>
            <a:ext cx="1655640" cy="504720"/>
          </a:xfrm>
          <a:prstGeom prst="leftArrow">
            <a:avLst>
              <a:gd name="adj1" fmla="val 50000"/>
              <a:gd name="adj2" fmla="val 82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0920" y="515772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on the arrow which shows the correc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51280" y="1773360"/>
            <a:ext cx="1498680" cy="2657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124000" y="1916280"/>
            <a:ext cx="2448000" cy="433080"/>
          </a:xfrm>
          <a:prstGeom prst="rightArrow">
            <a:avLst>
              <a:gd name="adj1" fmla="val 50000"/>
              <a:gd name="adj2" fmla="val 141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522936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Luck! Click on the guitar to 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1557360"/>
            <a:ext cx="1620720" cy="2873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0" y="3284640"/>
            <a:ext cx="3097080" cy="792000"/>
          </a:xfrm>
          <a:prstGeom prst="leftArrow">
            <a:avLst>
              <a:gd name="adj1" fmla="val 50000"/>
              <a:gd name="adj2" fmla="val 977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522936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 done! The string vibrates when you pluck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377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2276640"/>
            <a:ext cx="60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ill this make a s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2781360"/>
            <a:ext cx="1725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2205000"/>
            <a:ext cx="5905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tle makes a sound when you shak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51280" y="3213000"/>
            <a:ext cx="1320840" cy="1871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08000" y="5157720"/>
            <a:ext cx="59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shake the rattle, the materials inside it cause the air to vib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1989000"/>
            <a:ext cx="56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w try out these investig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2060640"/>
            <a:ext cx="5904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 some grains of rice on a drum sk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at the drum skin and observe what happens to the grains of r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es this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9280" y="2133720"/>
            <a:ext cx="6265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 an elastic band over a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 what happens to the band when you pluck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es this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19280" y="2133720"/>
            <a:ext cx="6265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19280" y="278136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Luck with your invest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oday’s key words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ibr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1844640"/>
            <a:ext cx="7345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ill this make a s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03640" y="3141720"/>
            <a:ext cx="23050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19640" y="2009880"/>
            <a:ext cx="2304720" cy="2381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68360" y="5157720"/>
            <a:ext cx="56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ich part of the drum vibrates to make the sou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3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198900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7280" y="1700280"/>
            <a:ext cx="2305080" cy="2381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924360" y="2565360"/>
            <a:ext cx="211608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00720" y="3357720"/>
            <a:ext cx="2117880" cy="2187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700280"/>
            <a:ext cx="1728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356000" y="1844640"/>
            <a:ext cx="936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08720" y="5084280"/>
            <a:ext cx="1079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0920" y="5084640"/>
            <a:ext cx="34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where the best sound will b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19640" y="1916280"/>
            <a:ext cx="2304720" cy="2381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411280" y="4508640"/>
            <a:ext cx="46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on the drum to try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2205000"/>
            <a:ext cx="66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19640" y="2009880"/>
            <a:ext cx="2304720" cy="2381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411280" y="48690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5661000"/>
            <a:ext cx="58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rum skin vibrates when you hi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7 0.042 -0.02133 C 0.048 -0.02133 0.059 -0.004 0.064 -0.004 C 0.071 -0.004 0.078 -0.00933 0.091 -0.00933 L 0.1 -0.216 L 0.11 0.03333 L 0.122 0 L 0.132 -0.00933 L 0.156 -0.00133 C 0.167 -0.00533 0.176 -0.02267 0.187 -0.02933 C 0.191 -0.03067 0.2 -0.032 0.206 -0.02933 C 0.212 -0.02667 0.217 -0.008 0.219 -0.00667 C 0.222 -0.00133 0.229 -0.00667 0.233 -0.004 L 0.239 0 L 0.25 0 E">
                                      <p:cBhvr>
                                        <p:cTn id="10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67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19280" y="189000"/>
            <a:ext cx="5689440" cy="792000"/>
          </a:xfrm>
          <a:prstGeom prst="wedgeRectCallout">
            <a:avLst>
              <a:gd name="adj1" fmla="val -50865"/>
              <a:gd name="adj2" fmla="val 14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that sounds are made when objects or materials vi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445000"/>
            <a:ext cx="1150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4797360"/>
            <a:ext cx="122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1989000"/>
            <a:ext cx="68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will this make a s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637000"/>
            <a:ext cx="1312920" cy="2179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79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8:35:21Z</dcterms:created>
  <dc:creator>Mills</dc:creator>
  <dc:description/>
  <dc:language>en-US</dc:language>
  <cp:lastModifiedBy>Mills</cp:lastModifiedBy>
  <dcterms:modified xsi:type="dcterms:W3CDTF">2004-12-23T11:37:04Z</dcterms:modified>
  <cp:revision>9</cp:revision>
  <dc:subject/>
  <dc:title>Sound</dc:title>
</cp:coreProperties>
</file>