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5.png" ContentType="image/png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EFA4-035C-4E0C-BE20-2C01E2CCC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5598-AC2D-4F0F-980C-92ECBD502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4B9D-C2B9-483D-8CEE-99AB824C3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B76E-0B4F-499C-8268-885890D02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EB8D-FFAD-4BD6-8459-AA1B59634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28DF-B3E9-46AB-9EFE-0795F3DBA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EEC4-A80A-4440-B023-4F7E1BEEF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53BF-D16C-4DD8-A0C9-4C3D2C3F9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6D35-B917-4BBF-843A-081317F8A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10B5-F46D-4128-8C83-94CB49966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6D76-79C9-4F5B-93B2-32DC002B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418C-DCB2-4679-B0EC-84E48C2CF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BC40F-C259-4CDC-9408-F50CEBEE93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slide" Target="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file:///tmp/home/.config/libreoffice/4/user/gallery/drum%20roll.wav" TargetMode="External"/><Relationship Id="rId3" Type="http://schemas.microsoft.com/office/2007/relationships/media" Target="file:///tmp/home/.config/libreoffice/4/user/gallery/drum%20roll.wav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audio" Target="file:///tmp/home/.config/libreoffice/4/user/gallery/alarm%20clock.wav" TargetMode="External"/><Relationship Id="rId4" Type="http://schemas.microsoft.com/office/2007/relationships/media" Target="file:///tmp/home/.config/libreoffice/4/user/gallery/alarm%20clock.wav" TargetMode="External"/><Relationship Id="rId5" Type="http://schemas.openxmlformats.org/officeDocument/2006/relationships/image" Target="../media/image5.png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Travelling Soun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27640" y="328464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835280" y="5877000"/>
            <a:ext cx="417672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t 5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313866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mp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1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21" dur="5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476360" y="404640"/>
            <a:ext cx="6335640" cy="64800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investigate what happens to sound when it trav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4869000"/>
            <a:ext cx="1368360" cy="172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9640" y="5157720"/>
            <a:ext cx="129564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u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ar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f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r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4005360"/>
            <a:ext cx="1439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24000" y="4724280"/>
            <a:ext cx="518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ck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 the correct dr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971640" y="1916280"/>
            <a:ext cx="1258920" cy="12999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3995640" y="1844640"/>
            <a:ext cx="1255680" cy="12970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924360" y="328464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u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588000" y="3284640"/>
            <a:ext cx="17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89440" y="335772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f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373800" y="1844640"/>
            <a:ext cx="1287360" cy="13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476360" y="404640"/>
            <a:ext cx="6335640" cy="64800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investigate what happens to sound when it trav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5280" y="4869000"/>
            <a:ext cx="1368360" cy="172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9640" y="5157720"/>
            <a:ext cx="129564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u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ar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f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r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4005360"/>
            <a:ext cx="1439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411280" y="4365720"/>
            <a:ext cx="53294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not corr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on the drum to try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276720" y="1557360"/>
            <a:ext cx="230508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476360" y="404640"/>
            <a:ext cx="6335640" cy="64800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investigate what happens to sound when it trav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4869000"/>
            <a:ext cx="1368360" cy="172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9640" y="5157720"/>
            <a:ext cx="129564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u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ar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f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r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4005360"/>
            <a:ext cx="1439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19280" y="4437000"/>
            <a:ext cx="54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ll d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203640" y="1484280"/>
            <a:ext cx="230508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476360" y="404640"/>
            <a:ext cx="6335640" cy="64800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investigate what happens to sound when it trav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5280" y="4869000"/>
            <a:ext cx="1368360" cy="172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9640" y="5157720"/>
            <a:ext cx="129564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u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ar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f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r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4005360"/>
            <a:ext cx="1439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908000" y="4292640"/>
            <a:ext cx="64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w get someone to bang the drum further away from the class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348000" y="1484280"/>
            <a:ext cx="230508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476360" y="404640"/>
            <a:ext cx="6335640" cy="64800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investigate what happens to sound when it trav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4869000"/>
            <a:ext cx="1368360" cy="172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9640" y="5157720"/>
            <a:ext cx="129564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u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ar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f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r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4005360"/>
            <a:ext cx="1439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050920" y="4221000"/>
            <a:ext cx="626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has happened to the sound now it is further aw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276720" y="1413000"/>
            <a:ext cx="230508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476360" y="404640"/>
            <a:ext cx="6335640" cy="64800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investigate what happens to sound when it trav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5280" y="4869000"/>
            <a:ext cx="1368360" cy="172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9640" y="5157720"/>
            <a:ext cx="129564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u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ar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f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r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4000" y="4005360"/>
            <a:ext cx="1439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24000" y="4724280"/>
            <a:ext cx="518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on the correct dr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258920" y="1700280"/>
            <a:ext cx="1328760" cy="13730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3851280" y="1700280"/>
            <a:ext cx="1324080" cy="13683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116000" y="32846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n lou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635280" y="32846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n sof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732720" y="328464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6372360" y="1628640"/>
            <a:ext cx="139356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476360" y="404640"/>
            <a:ext cx="6335640" cy="64800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investigate what happens to sound when it trav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5280" y="4869000"/>
            <a:ext cx="1368360" cy="172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5157720"/>
            <a:ext cx="129564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u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ar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f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r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4000" y="4005360"/>
            <a:ext cx="1439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79640" y="4653000"/>
            <a:ext cx="612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rry, you are wrong. Click on the drum to try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3419640" y="1628640"/>
            <a:ext cx="230472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476360" y="404640"/>
            <a:ext cx="6335640" cy="64800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investigate what happens to sound when it trav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5280" y="4869000"/>
            <a:ext cx="1368360" cy="172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9640" y="5157720"/>
            <a:ext cx="129564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u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ar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f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r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4005360"/>
            <a:ext cx="1439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76360" y="414972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ll d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3132000" y="1341360"/>
            <a:ext cx="230508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4354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476360" y="404640"/>
            <a:ext cx="6335640" cy="64800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investigate what happens to sound when it trav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5280" y="4869000"/>
            <a:ext cx="1368360" cy="172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9640" y="5157720"/>
            <a:ext cx="129564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u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ar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f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r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4000" y="4005360"/>
            <a:ext cx="1439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050920" y="148428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 far you have observ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050920" y="2133720"/>
            <a:ext cx="53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und will travel through solid obj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050920" y="3357720"/>
            <a:ext cx="453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further  away a sound is, the softer it will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050920" y="5157720"/>
            <a:ext cx="446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nearer a sound is, the louder it will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476360" y="404640"/>
            <a:ext cx="6335640" cy="64800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investigate what happens to sound when it trav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5280" y="4869000"/>
            <a:ext cx="1368360" cy="172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9640" y="5157720"/>
            <a:ext cx="129564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u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ar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f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r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24000" y="4005360"/>
            <a:ext cx="1439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4000" y="170028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w try this investig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124000" y="2781360"/>
            <a:ext cx="561672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 an alarm clock or stop watch to ring and observe the s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 place it inside a closed box or wrap it in some thick mater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oes the clock sound when it is inside something el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908000" y="1844640"/>
            <a:ext cx="56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3429000"/>
            <a:ext cx="6264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o investigate what happens to sound when it travel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476360" y="404640"/>
            <a:ext cx="6335640" cy="64800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investigate what happens to sound when it trav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95280" y="4869000"/>
            <a:ext cx="1368360" cy="172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9640" y="5157720"/>
            <a:ext cx="129564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u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ar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f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r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4000" y="4005360"/>
            <a:ext cx="1439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403280" y="1628640"/>
            <a:ext cx="1422360" cy="15130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3851280" y="1557360"/>
            <a:ext cx="1420920" cy="15112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300720" y="1628640"/>
            <a:ext cx="1422360" cy="15130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476360" y="3213000"/>
            <a:ext cx="18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me as bef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851280" y="32130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ff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516720" y="342900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u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411280" y="465300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on the correct clo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476360" y="404640"/>
            <a:ext cx="6335640" cy="64800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investigate what happens to sound when it trav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5280" y="4869000"/>
            <a:ext cx="1368360" cy="172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39640" y="5157720"/>
            <a:ext cx="129564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u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ar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f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r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4000" y="4005360"/>
            <a:ext cx="1439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3419640" y="1628640"/>
            <a:ext cx="1952640" cy="20764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2484360" y="4221000"/>
            <a:ext cx="453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y again by clicking on the clo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476360" y="404640"/>
            <a:ext cx="6335640" cy="64800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investigate what happens to sound when it trav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5280" y="4869000"/>
            <a:ext cx="1368360" cy="172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9640" y="5157720"/>
            <a:ext cx="129564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u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ar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f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r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24000" y="4005360"/>
            <a:ext cx="1439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595680" y="2162160"/>
            <a:ext cx="1952640" cy="20764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2556000" y="429264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ll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1" dur="8372" fill="hold"/>
                                        <p:tgtEl>
                                          <p:spTgt spid="1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476360" y="404640"/>
            <a:ext cx="6335640" cy="64800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investigate what happens to sound when it trav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5280" y="4869000"/>
            <a:ext cx="1368360" cy="172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9640" y="5157720"/>
            <a:ext cx="129564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u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ar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f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r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4000" y="4005360"/>
            <a:ext cx="1439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195640" y="1628640"/>
            <a:ext cx="611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ll sound travel through wa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95640" y="3573360"/>
            <a:ext cx="583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t time you go swimming, put your head under the water and observe whether or not you can still hear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476360" y="404640"/>
            <a:ext cx="6335640" cy="64800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investigate what happens to sound when it trav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95280" y="4869000"/>
            <a:ext cx="1368360" cy="172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9640" y="5157720"/>
            <a:ext cx="129564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u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ar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f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r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24000" y="4005360"/>
            <a:ext cx="1439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979640" y="2924280"/>
            <a:ext cx="590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 need to know one more important fact about travelling s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476360" y="404640"/>
            <a:ext cx="6335640" cy="64800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investigate what happens to sound when it trav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95280" y="4869000"/>
            <a:ext cx="1368360" cy="172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9640" y="5157720"/>
            <a:ext cx="129564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u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ar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f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r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4005360"/>
            <a:ext cx="1439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908000" y="2997360"/>
            <a:ext cx="5975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und will not travel through a vacuum, such as outer space because there is no air for it to vib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476360" y="404640"/>
            <a:ext cx="6335640" cy="64800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investigate what happens to sound when it trav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95280" y="4869000"/>
            <a:ext cx="1368360" cy="172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39640" y="5157720"/>
            <a:ext cx="129564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u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ar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f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r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4000" y="4005360"/>
            <a:ext cx="1439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835280" y="3213000"/>
            <a:ext cx="590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hard to demonstrate, so you will just have to take my word for it……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476360" y="404640"/>
            <a:ext cx="6335640" cy="64800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investigate what happens to sound when it trav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95280" y="4869000"/>
            <a:ext cx="1368360" cy="172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39640" y="5157720"/>
            <a:ext cx="129564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u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ar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f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r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24000" y="4005360"/>
            <a:ext cx="1439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124000" y="2708280"/>
            <a:ext cx="49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476360" y="404640"/>
            <a:ext cx="6335640" cy="64800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investigate what happens to sound when it trav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95280" y="4869000"/>
            <a:ext cx="1368360" cy="172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9640" y="5157720"/>
            <a:ext cx="129564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u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ar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f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r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4000" y="4005360"/>
            <a:ext cx="1439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08000" y="2133720"/>
            <a:ext cx="56883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eck it out next time you go on holiday to M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3348000" y="3860640"/>
            <a:ext cx="2273400" cy="22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476360" y="404640"/>
            <a:ext cx="6335640" cy="64800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investigate what happens to sound when it trav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95280" y="4869000"/>
            <a:ext cx="1368360" cy="172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39640" y="5157720"/>
            <a:ext cx="129564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u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ar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f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r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4000" y="4005360"/>
            <a:ext cx="1439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124000" y="162864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340000" y="2565360"/>
            <a:ext cx="54007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nearer the sound, the ………. it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further away the sound, the ……… it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u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ar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f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r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476360" y="404640"/>
            <a:ext cx="6335640" cy="64800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investigate what happens to sound when it trav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95280" y="4869000"/>
            <a:ext cx="1368360" cy="172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39640" y="5157720"/>
            <a:ext cx="129564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u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ar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f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r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24000" y="4005360"/>
            <a:ext cx="1439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050920" y="2349360"/>
            <a:ext cx="554364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ll sound travel through solid objec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ll sound travel through a vacuu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ll sound travel through wa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476360" y="404640"/>
            <a:ext cx="6335640" cy="64800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investigate what happens to sound when it trav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95280" y="4869000"/>
            <a:ext cx="1368360" cy="172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39640" y="5157720"/>
            <a:ext cx="129564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u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ar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f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r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24000" y="4005360"/>
            <a:ext cx="1439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195640" y="2565360"/>
            <a:ext cx="5545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you knew all the answers in the quiz you have learned some important facts about s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476360" y="404640"/>
            <a:ext cx="6335640" cy="64800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investigate what happens to sound when it trav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4869000"/>
            <a:ext cx="1368360" cy="172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9640" y="5157720"/>
            <a:ext cx="129564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u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ar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f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r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4005360"/>
            <a:ext cx="1439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4941720"/>
            <a:ext cx="561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t someone to bang a drum in the class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132000" y="1989000"/>
            <a:ext cx="230508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476360" y="404640"/>
            <a:ext cx="6335640" cy="64800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investigate what happens to sound when it trav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5280" y="4869000"/>
            <a:ext cx="1368360" cy="172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5157720"/>
            <a:ext cx="129564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u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ar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f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r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4005360"/>
            <a:ext cx="1439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195640" y="508464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you hear the so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3419640" y="2009880"/>
            <a:ext cx="230472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4354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0"/>
                </p:tgtEl>
              </p:cMediaNode>
            </p:audio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476360" y="404640"/>
            <a:ext cx="6335640" cy="64800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investigate what happens to sound when it trav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4869000"/>
            <a:ext cx="1368360" cy="172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9640" y="5157720"/>
            <a:ext cx="129564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u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ar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f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r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4005360"/>
            <a:ext cx="1439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003640" y="2133720"/>
            <a:ext cx="1359000" cy="9777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987640" y="2276640"/>
            <a:ext cx="1944720" cy="431640"/>
          </a:xfrm>
          <a:prstGeom prst="rightArrow">
            <a:avLst>
              <a:gd name="adj1" fmla="val 50000"/>
              <a:gd name="adj2" fmla="val 1126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2411280" y="2708280"/>
            <a:ext cx="152640" cy="304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195640" y="3716280"/>
            <a:ext cx="597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n a drum is banged the sound vibrates the air as it travels to your 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43280" y="2505240"/>
            <a:ext cx="2089080" cy="574560"/>
          </a:xfrm>
          <a:custGeom>
            <a:avLst/>
            <a:gdLst/>
            <a:ahLst/>
            <a:rect l="l" t="t" r="r" b="b"/>
            <a:pathLst>
              <a:path w="1316" h="362">
                <a:moveTo>
                  <a:pt x="0" y="83"/>
                </a:moveTo>
                <a:cubicBezTo>
                  <a:pt x="11" y="222"/>
                  <a:pt x="23" y="362"/>
                  <a:pt x="46" y="355"/>
                </a:cubicBezTo>
                <a:cubicBezTo>
                  <a:pt x="69" y="348"/>
                  <a:pt x="106" y="38"/>
                  <a:pt x="136" y="38"/>
                </a:cubicBezTo>
                <a:cubicBezTo>
                  <a:pt x="166" y="38"/>
                  <a:pt x="197" y="348"/>
                  <a:pt x="227" y="355"/>
                </a:cubicBezTo>
                <a:cubicBezTo>
                  <a:pt x="257" y="362"/>
                  <a:pt x="295" y="83"/>
                  <a:pt x="318" y="83"/>
                </a:cubicBezTo>
                <a:cubicBezTo>
                  <a:pt x="341" y="83"/>
                  <a:pt x="340" y="355"/>
                  <a:pt x="363" y="355"/>
                </a:cubicBezTo>
                <a:cubicBezTo>
                  <a:pt x="386" y="355"/>
                  <a:pt x="431" y="83"/>
                  <a:pt x="454" y="83"/>
                </a:cubicBezTo>
                <a:cubicBezTo>
                  <a:pt x="477" y="83"/>
                  <a:pt x="476" y="355"/>
                  <a:pt x="499" y="355"/>
                </a:cubicBezTo>
                <a:cubicBezTo>
                  <a:pt x="522" y="355"/>
                  <a:pt x="567" y="83"/>
                  <a:pt x="590" y="83"/>
                </a:cubicBezTo>
                <a:cubicBezTo>
                  <a:pt x="613" y="83"/>
                  <a:pt x="612" y="362"/>
                  <a:pt x="635" y="355"/>
                </a:cubicBezTo>
                <a:cubicBezTo>
                  <a:pt x="658" y="348"/>
                  <a:pt x="703" y="45"/>
                  <a:pt x="726" y="38"/>
                </a:cubicBezTo>
                <a:cubicBezTo>
                  <a:pt x="749" y="31"/>
                  <a:pt x="748" y="295"/>
                  <a:pt x="771" y="310"/>
                </a:cubicBezTo>
                <a:cubicBezTo>
                  <a:pt x="794" y="325"/>
                  <a:pt x="847" y="173"/>
                  <a:pt x="862" y="128"/>
                </a:cubicBezTo>
                <a:cubicBezTo>
                  <a:pt x="877" y="83"/>
                  <a:pt x="847" y="0"/>
                  <a:pt x="862" y="38"/>
                </a:cubicBezTo>
                <a:cubicBezTo>
                  <a:pt x="877" y="76"/>
                  <a:pt x="923" y="348"/>
                  <a:pt x="953" y="355"/>
                </a:cubicBezTo>
                <a:cubicBezTo>
                  <a:pt x="983" y="362"/>
                  <a:pt x="1006" y="90"/>
                  <a:pt x="1044" y="83"/>
                </a:cubicBezTo>
                <a:cubicBezTo>
                  <a:pt x="1082" y="76"/>
                  <a:pt x="1142" y="310"/>
                  <a:pt x="1180" y="310"/>
                </a:cubicBezTo>
                <a:cubicBezTo>
                  <a:pt x="1218" y="310"/>
                  <a:pt x="1247" y="91"/>
                  <a:pt x="1270" y="83"/>
                </a:cubicBezTo>
                <a:cubicBezTo>
                  <a:pt x="1293" y="75"/>
                  <a:pt x="1301" y="234"/>
                  <a:pt x="1316" y="26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1476360" y="1844640"/>
            <a:ext cx="1260360" cy="13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4354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0"/>
                </p:tgtEl>
              </p:cMediaNode>
            </p:audio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476360" y="404640"/>
            <a:ext cx="6335640" cy="64800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investigate what happens to sound when it trav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4869000"/>
            <a:ext cx="1368360" cy="172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9640" y="5157720"/>
            <a:ext cx="129564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u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ar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f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r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4005360"/>
            <a:ext cx="1439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195640" y="4724280"/>
            <a:ext cx="60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t someone to bang on a drum in the classroom and observe the s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3271680" y="1773360"/>
            <a:ext cx="216540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4354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476360" y="404640"/>
            <a:ext cx="6335640" cy="64800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investigate what happens to sound when it trav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4869000"/>
            <a:ext cx="1368360" cy="172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9640" y="5157720"/>
            <a:ext cx="129564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u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ar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f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r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4005360"/>
            <a:ext cx="1439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95640" y="4076640"/>
            <a:ext cx="6121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w get someone to go outside the room and bang on the drum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203640" y="1628640"/>
            <a:ext cx="230508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476360" y="404640"/>
            <a:ext cx="6335640" cy="64800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investigate what happens to sound when it trav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4869000"/>
            <a:ext cx="1368360" cy="172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9640" y="5157720"/>
            <a:ext cx="129564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u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ar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f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r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4005360"/>
            <a:ext cx="1439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79640" y="4149720"/>
            <a:ext cx="640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do you observe about the sound when you hear the drum from outside the roo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276720" y="1268280"/>
            <a:ext cx="230508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5T17:00:37Z</dcterms:created>
  <dc:creator>Mills</dc:creator>
  <dc:description/>
  <dc:language>en-US</dc:language>
  <cp:lastModifiedBy>Mills</cp:lastModifiedBy>
  <dcterms:modified xsi:type="dcterms:W3CDTF">2004-12-23T11:37:21Z</dcterms:modified>
  <cp:revision>10</cp:revision>
  <dc:subject/>
  <dc:title>Travelling Sound</dc:title>
</cp:coreProperties>
</file>