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D2D-1204-4CAF-8774-8BDFB4BC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0EF-D2A1-4109-A6CE-FB936B75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84F-DC7D-4AD2-9F8E-4AFDCC7C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54A-6B3E-404A-BA5D-5ED5A094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EB2-58B8-4C4D-B53C-1E4F9A44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0BB-C61F-4173-99CA-4C51A3A0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DCB-DF4D-4B07-B5F8-46C630E7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A06-35D4-4F95-BAAB-7E9F9A01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172-18B4-4445-ABD9-3B0E767C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1A7-9EFD-4658-88E3-5DA2AFF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AAB-3CFB-4E1E-BA62-D429ABF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159-907D-48B6-A276-226217FF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AC6F-0F06-4F98-A5E5-E39D516674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620640"/>
            <a:ext cx="820872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e3e02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Magnets &amp; spr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e3e02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3789360"/>
            <a:ext cx="2487600" cy="265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300640"/>
            <a:ext cx="288108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3E, Magnet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4414680"/>
            <a:ext cx="1871640" cy="1783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060640"/>
            <a:ext cx="8064360" cy="2089080"/>
          </a:xfrm>
          <a:custGeom>
            <a:avLst/>
            <a:gdLst>
              <a:gd name="textAreaLeft" fmla="*/ 0 w 8064360"/>
              <a:gd name="textAreaRight" fmla="*/ 8064720 w 806436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know that there are forces between magnets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sh &amp; pu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635280" y="4508640"/>
            <a:ext cx="189072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295280" cy="123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189000"/>
            <a:ext cx="7127640" cy="1584360"/>
          </a:xfrm>
          <a:custGeom>
            <a:avLst/>
            <a:gdLst>
              <a:gd name="textAreaLeft" fmla="*/ 0 w 7127640"/>
              <a:gd name="textAreaRight" fmla="*/ 7128000 w 7127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forces between magnets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ush &amp; p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700280"/>
            <a:ext cx="3744720" cy="1944720"/>
          </a:xfrm>
          <a:prstGeom prst="irregularSeal1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1844640"/>
            <a:ext cx="2376360" cy="2233800"/>
          </a:xfrm>
          <a:prstGeom prst="star5">
            <a:avLst/>
          </a:pr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3716280"/>
            <a:ext cx="4248360" cy="2592360"/>
          </a:xfrm>
          <a:custGeom>
            <a:avLst/>
            <a:gdLst>
              <a:gd name="textAreaLeft" fmla="*/ 1750320 w 4248360"/>
              <a:gd name="textAreaRight" fmla="*/ 2498040 w 4248360"/>
              <a:gd name="textAreaTop" fmla="*/ 1068120 h 2592360"/>
              <a:gd name="textAreaBottom" fmla="*/ 15242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292640"/>
            <a:ext cx="1440000" cy="208764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2060640"/>
            <a:ext cx="1800000" cy="792000"/>
          </a:xfrm>
          <a:prstGeom prst="flowChartPreparation">
            <a:avLst/>
          </a:pr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0720" y="4724280"/>
            <a:ext cx="2448000" cy="1800360"/>
          </a:xfrm>
          <a:prstGeom prst="star5">
            <a:avLst/>
          </a:pr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997360"/>
            <a:ext cx="2447640" cy="1511280"/>
          </a:xfrm>
          <a:prstGeom prst="irregularSeal1">
            <a:avLst/>
          </a:pr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295280" cy="123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92360" y="189000"/>
            <a:ext cx="7127640" cy="1584360"/>
          </a:xfrm>
          <a:custGeom>
            <a:avLst/>
            <a:gdLst>
              <a:gd name="textAreaLeft" fmla="*/ 0 w 7127640"/>
              <a:gd name="textAreaRight" fmla="*/ 7128000 w 7127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forces between magnets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ush &amp; p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93080" y="191628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2060640"/>
            <a:ext cx="5905440" cy="1152360"/>
          </a:xfrm>
          <a:prstGeom prst="wedgeRoundRectCallout">
            <a:avLst>
              <a:gd name="adj1" fmla="val 61560"/>
              <a:gd name="adj2" fmla="val 95041"/>
              <a:gd name="adj3" fmla="val 16667"/>
            </a:avLst>
          </a:prstGeom>
          <a:gradFill rotWithShape="0">
            <a:gsLst>
              <a:gs pos="0">
                <a:srgbClr val="ff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can you tell me about the magnets that you have on your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716280"/>
            <a:ext cx="5761080" cy="1081080"/>
          </a:xfrm>
          <a:prstGeom prst="wedgeRoundRectCallout">
            <a:avLst>
              <a:gd name="adj1" fmla="val 66504"/>
              <a:gd name="adj2" fmla="val -35902"/>
              <a:gd name="adj3" fmla="val 16667"/>
            </a:avLst>
          </a:prstGeom>
          <a:gradFill rotWithShape="0">
            <a:gsLst>
              <a:gs pos="0">
                <a:srgbClr val="ff66cc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 anyone know what the two ends of a magnet are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5084640"/>
            <a:ext cx="3816360" cy="936720"/>
          </a:xfrm>
          <a:custGeom>
            <a:avLst/>
            <a:gdLst>
              <a:gd name="textAreaLeft" fmla="*/ 839160 w 3816360"/>
              <a:gd name="textAreaRight" fmla="*/ 2977200 w 381636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ff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492360" y="5734080"/>
            <a:ext cx="4032360" cy="792000"/>
          </a:xfrm>
          <a:custGeom>
            <a:avLst/>
            <a:gdLst>
              <a:gd name="textAreaLeft" fmla="*/ 886680 w 4032360"/>
              <a:gd name="textAreaRight" fmla="*/ 3145680 w 403236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295280" cy="1233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2360" y="189000"/>
            <a:ext cx="7127640" cy="1584360"/>
          </a:xfrm>
          <a:custGeom>
            <a:avLst/>
            <a:gdLst>
              <a:gd name="textAreaLeft" fmla="*/ 0 w 7127640"/>
              <a:gd name="textAreaRight" fmla="*/ 7128000 w 7127640"/>
              <a:gd name="textAreaTop" fmla="*/ 205200 h 1584360"/>
              <a:gd name="textAreaBottom" fmla="*/ 13791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To kow that there are forces between magnets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Push &amp; p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93080" y="191628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1989000"/>
            <a:ext cx="5759640" cy="1008360"/>
          </a:xfrm>
          <a:prstGeom prst="wedgeRoundRectCallout">
            <a:avLst>
              <a:gd name="adj1" fmla="val 58518"/>
              <a:gd name="adj2" fmla="val 141495"/>
              <a:gd name="adj3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agnets have a North and a South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15:15:19Z</dcterms:created>
  <dc:creator>Manager</dc:creator>
  <dc:description/>
  <dc:language>en-US</dc:language>
  <cp:lastModifiedBy>Mills</cp:lastModifiedBy>
  <dcterms:modified xsi:type="dcterms:W3CDTF">2004-12-23T11:28:51Z</dcterms:modified>
  <cp:revision>4</cp:revision>
  <dc:subject/>
  <dc:title>Slide 1</dc:title>
</cp:coreProperties>
</file>