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C26-6511-4E61-B09A-E7950AC6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56C-E00C-4970-9FC8-193452EB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34A-DF33-4D7B-B22D-878EB214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7C5-0E82-4A0B-B45B-41BF5A55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5FF-43D7-4195-B2BC-27CC02FA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BC7-A4A5-4EFC-BECB-128645FF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D0D-F091-4EC6-94E9-E5EE2F9E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B6E-E848-4347-98CD-348FC4F0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459-7FF4-4F03-A1E3-0310B974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515-E656-477E-9743-B59DE0F5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BD0-51B7-4890-91AC-7AA98992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286-D198-411B-9ABD-B32D795D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B11B-4DD6-4A9B-98F7-D2EBF5D4A7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765000"/>
            <a:ext cx="6265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C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00360" y="2708280"/>
            <a:ext cx="33843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63640" y="4508640"/>
            <a:ext cx="568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6308640"/>
            <a:ext cx="6696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4414680"/>
            <a:ext cx="1871640" cy="178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1916280"/>
            <a:ext cx="8064720" cy="2089080"/>
          </a:xfrm>
          <a:custGeom>
            <a:avLst/>
            <a:gdLst>
              <a:gd name="textAreaLeft" fmla="*/ 0 w 8064720"/>
              <a:gd name="textAreaRight" fmla="*/ 8065080 w 8064720"/>
              <a:gd name="textAreaTop" fmla="*/ 270720 h 2089080"/>
              <a:gd name="textAreaBottom" fmla="*/ 181836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know that rocks can be tested for their w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164360" y="4221000"/>
            <a:ext cx="160992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87280" y="260280"/>
            <a:ext cx="6840720" cy="1368360"/>
          </a:xfrm>
          <a:custGeom>
            <a:avLst/>
            <a:gdLst>
              <a:gd name="textAreaLeft" fmla="*/ 0 w 6840720"/>
              <a:gd name="textAreaRight" fmla="*/ 6841080 w 684072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99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know that rocks can be tested for their we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1822680" cy="3201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2340000" y="1700280"/>
            <a:ext cx="4392720" cy="1728720"/>
          </a:xfrm>
          <a:prstGeom prst="wedgeRoundRectCallout">
            <a:avLst>
              <a:gd name="adj1" fmla="val -49097"/>
              <a:gd name="adj2" fmla="val 63037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 hard the roc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 are going to test the hardness of the rocks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75080"/>
            <a:ext cx="7634160" cy="3382920"/>
          </a:xfrm>
          <a:prstGeom prst="irregularSeal2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. Rubbing on pap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. Scratching with a finger n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3. Scratching with a nail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189000"/>
            <a:ext cx="6840720" cy="1368360"/>
          </a:xfrm>
          <a:custGeom>
            <a:avLst/>
            <a:gdLst>
              <a:gd name="textAreaLeft" fmla="*/ 0 w 6840720"/>
              <a:gd name="textAreaRight" fmla="*/ 6841080 w 684072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99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know that rocks can be tested for their we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5280" y="1773360"/>
          <a:ext cx="8497800" cy="471636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roc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happens when you test 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hard is the rock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  Soft   Hard   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                        H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6732720" y="256536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08720" y="256536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56720" y="2565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52:41Z</dcterms:created>
  <dc:creator>Manager</dc:creator>
  <dc:description/>
  <dc:language>en-US</dc:language>
  <cp:lastModifiedBy>Mills</cp:lastModifiedBy>
  <dcterms:modified xsi:type="dcterms:W3CDTF">2004-12-23T11:35:36Z</dcterms:modified>
  <cp:revision>4</cp:revision>
  <dc:subject/>
  <dc:title>Slide 1</dc:title>
</cp:coreProperties>
</file>