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2B5-F120-4E2E-951C-30DB2B15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179-DACF-40CA-A394-A63C9A4D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E91-1C2A-45E5-9803-FB13D235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350-1B11-4CE0-91E0-DB7E54AC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62D-6F40-4EFB-9E54-BA91058D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F00-30A8-4663-9DF7-2875805B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1DC-524C-4787-9A31-F1436032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E25-96D4-4EFD-9A1B-DB2E9DB7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15E-0A84-4E81-AF11-B8135A82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63F-0B82-4DCA-AEEF-DFD813FC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EF8-AC64-4435-8991-75F9FCDA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E34-0A7F-4257-81C7-626B6C94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84C7-A814-4615-BA7A-ED1B09999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3645000"/>
            <a:ext cx="619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had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333360"/>
            <a:ext cx="345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igh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356000" y="2852640"/>
            <a:ext cx="12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149560" cy="1924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04000" y="549360"/>
            <a:ext cx="2048040" cy="154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5589720"/>
            <a:ext cx="43210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Unit 3F, Light and Sha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61840" y="449280"/>
            <a:ext cx="770580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know that when light from a source is blocked a shadow is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1341360"/>
            <a:ext cx="5111640" cy="1008000"/>
          </a:xfrm>
          <a:custGeom>
            <a:avLst/>
            <a:gdLst>
              <a:gd name="textAreaLeft" fmla="*/ 0 w 5111640"/>
              <a:gd name="textAreaRight" fmla="*/ 5112000 w 5111640"/>
              <a:gd name="textAreaTop" fmla="*/ 130680 h 1008000"/>
              <a:gd name="textAreaBottom" fmla="*/ 8773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OW SHADOW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284640"/>
            <a:ext cx="5689440" cy="2089080"/>
          </a:xfrm>
          <a:custGeom>
            <a:avLst/>
            <a:gdLst>
              <a:gd name="textAreaLeft" fmla="*/ 0 w 5689440"/>
              <a:gd name="textAreaRight" fmla="*/ 5689800 w 5689440"/>
              <a:gd name="textAreaTop" fmla="*/ 270720 h 2089080"/>
              <a:gd name="textAreaBottom" fmla="*/ 181836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66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Shine the torch through the c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Make shadows on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276640"/>
            <a:ext cx="6481800" cy="1008000"/>
          </a:xfrm>
          <a:custGeom>
            <a:avLst/>
            <a:gdLst>
              <a:gd name="textAreaLeft" fmla="*/ 0 w 6481800"/>
              <a:gd name="textAreaRight" fmla="*/ 6482160 w 6481800"/>
              <a:gd name="textAreaTop" fmla="*/ 130680 h 1008000"/>
              <a:gd name="textAreaBottom" fmla="*/ 8773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hings that block the light form shadows.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5705640"/>
            <a:ext cx="6624720" cy="963360"/>
          </a:xfrm>
          <a:custGeom>
            <a:avLst/>
            <a:gdLst>
              <a:gd name="textAreaLeft" fmla="*/ 0 w 6624720"/>
              <a:gd name="textAreaRight" fmla="*/ 6625080 w 6624720"/>
              <a:gd name="textAreaTop" fmla="*/ 124920 h 963360"/>
              <a:gd name="textAreaBottom" fmla="*/ 838440 h 963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ite down what you think is hap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413000"/>
            <a:ext cx="1944720" cy="5256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can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w can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plain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y d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very t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st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ad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re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ight be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lo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260280"/>
            <a:ext cx="770580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know that when light from a source is blocked a shadow is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1341360"/>
            <a:ext cx="1800000" cy="25923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do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989000"/>
            <a:ext cx="6121440" cy="4392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00cc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774880" cy="295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68360" y="260280"/>
            <a:ext cx="6407280" cy="5761080"/>
          </a:xfrm>
          <a:prstGeom prst="irregularSeal2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know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urce is block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had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580000" y="4508640"/>
            <a:ext cx="327348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flipH="1">
            <a:off x="250560" y="2565360"/>
            <a:ext cx="2360520" cy="405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43280" y="2565360"/>
            <a:ext cx="3816360" cy="649440"/>
          </a:xfrm>
          <a:prstGeom prst="wedgeRoundRectCallout">
            <a:avLst>
              <a:gd name="adj1" fmla="val -58236"/>
              <a:gd name="adj2" fmla="val 315768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m I thinking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476280"/>
            <a:ext cx="2663640" cy="1873080"/>
          </a:xfrm>
          <a:prstGeom prst="cloudCallout">
            <a:avLst>
              <a:gd name="adj1" fmla="val -106972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60280"/>
            <a:ext cx="2447640" cy="100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r Red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dhall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1413000"/>
            <a:ext cx="576360" cy="1079280"/>
          </a:xfrm>
          <a:prstGeom prst="downArrow">
            <a:avLst>
              <a:gd name="adj1" fmla="val 50000"/>
              <a:gd name="adj2" fmla="val 4681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flipH="1">
            <a:off x="250560" y="2565360"/>
            <a:ext cx="2360520" cy="405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16360" y="1557360"/>
            <a:ext cx="3816360" cy="938160"/>
          </a:xfrm>
          <a:prstGeom prst="wedgeRoundRectCallout">
            <a:avLst>
              <a:gd name="adj1" fmla="val -60523"/>
              <a:gd name="adj2" fmla="val 305837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thing can change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4005360"/>
            <a:ext cx="3456000" cy="1008000"/>
          </a:xfrm>
          <a:prstGeom prst="wedgeRoundRectCallout">
            <a:avLst>
              <a:gd name="adj1" fmla="val -73703"/>
              <a:gd name="adj2" fmla="val 42754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 appea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appear insta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5373720"/>
            <a:ext cx="3384360" cy="1008000"/>
          </a:xfrm>
          <a:prstGeom prst="wedgeRoundRectCallout">
            <a:avLst>
              <a:gd name="adj1" fmla="val -77625"/>
              <a:gd name="adj2" fmla="val -81337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 be anyw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653000"/>
            <a:ext cx="1871640" cy="180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</a:rPr>
              <a:t>YOU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flipH="1">
            <a:off x="250560" y="2565360"/>
            <a:ext cx="2360520" cy="4056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6360" y="1557360"/>
            <a:ext cx="3816360" cy="938160"/>
          </a:xfrm>
          <a:prstGeom prst="wedgeRoundRectCallout">
            <a:avLst>
              <a:gd name="adj1" fmla="val -57486"/>
              <a:gd name="adj2" fmla="val 293486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s shape can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fore your ey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3860640"/>
            <a:ext cx="3456000" cy="1008360"/>
          </a:xfrm>
          <a:prstGeom prst="wedgeRoundRectCallout">
            <a:avLst>
              <a:gd name="adj1" fmla="val -73703"/>
              <a:gd name="adj2" fmla="val 57087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does not have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5229360"/>
            <a:ext cx="3097440" cy="1008000"/>
          </a:xfrm>
          <a:prstGeom prst="wedgeRoundRectCallout">
            <a:avLst>
              <a:gd name="adj1" fmla="val -85263"/>
              <a:gd name="adj2" fmla="val -72675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of thes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you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4653000"/>
            <a:ext cx="1871640" cy="180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</a:rPr>
              <a:t>YOU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flipH="1">
            <a:off x="250560" y="2565360"/>
            <a:ext cx="2360520" cy="4056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16360" y="1557360"/>
            <a:ext cx="3816360" cy="938160"/>
          </a:xfrm>
          <a:prstGeom prst="wedgeRoundRectCallout">
            <a:avLst>
              <a:gd name="adj1" fmla="val -57486"/>
              <a:gd name="adj2" fmla="val 295175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times they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sc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357720"/>
            <a:ext cx="3816360" cy="1008000"/>
          </a:xfrm>
          <a:prstGeom prst="wedgeRoundRectCallout">
            <a:avLst>
              <a:gd name="adj1" fmla="val -92222"/>
              <a:gd name="adj2" fmla="val 100393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times they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6360" y="5373720"/>
            <a:ext cx="3960720" cy="1008000"/>
          </a:xfrm>
          <a:prstGeom prst="wedgeRoundRectCallout">
            <a:avLst>
              <a:gd name="adj1" fmla="val -59777"/>
              <a:gd name="adj2" fmla="val -90000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an mo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y are not a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4653000"/>
            <a:ext cx="1871640" cy="180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</a:rPr>
              <a:t>Slide 6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LICK HE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</a:rPr>
              <a:t>YOU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flipH="1">
            <a:off x="250560" y="2565360"/>
            <a:ext cx="2360520" cy="4056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16360" y="1557360"/>
            <a:ext cx="3816360" cy="938160"/>
          </a:xfrm>
          <a:prstGeom prst="wedgeRoundRectCallout">
            <a:avLst>
              <a:gd name="adj1" fmla="val -60148"/>
              <a:gd name="adj2" fmla="val 310574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an move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not al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4149720"/>
            <a:ext cx="3384360" cy="1366920"/>
          </a:xfrm>
          <a:prstGeom prst="wedgeRoundRectCallout">
            <a:avLst>
              <a:gd name="adj1" fmla="val -76314"/>
              <a:gd name="adj2" fmla="val 8884"/>
              <a:gd name="adj3" fmla="val 16667"/>
            </a:avLst>
          </a:prstGeom>
          <a:gradFill rotWithShape="0">
            <a:gsLst>
              <a:gs pos="0">
                <a:srgbClr val="ff00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out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simply do no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4653000"/>
            <a:ext cx="1871640" cy="180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CK HE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 YOU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</a:rPr>
              <a:t>YOU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549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answer 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1628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HADO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27280" y="2610000"/>
            <a:ext cx="3960720" cy="35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11280" y="260280"/>
            <a:ext cx="770580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know that when light from a source is blocked a shadow is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20000" y="1341360"/>
            <a:ext cx="1800000" cy="25923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do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 flipH="1">
            <a:off x="250560" y="2565360"/>
            <a:ext cx="2360520" cy="4056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00360" y="1557360"/>
            <a:ext cx="3816360" cy="934920"/>
          </a:xfrm>
          <a:prstGeom prst="wedgeRoundRectCallout">
            <a:avLst>
              <a:gd name="adj1" fmla="val -56407"/>
              <a:gd name="adj2" fmla="val 319611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re shadows 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3284640"/>
            <a:ext cx="4103640" cy="2232000"/>
          </a:xfrm>
          <a:prstGeom prst="hexagon">
            <a:avLst>
              <a:gd name="adj" fmla="val 45964"/>
              <a:gd name="vf" fmla="val 115470"/>
            </a:avLst>
          </a:prstGeom>
          <a:gradFill rotWithShape="0">
            <a:gsLst>
              <a:gs pos="0">
                <a:srgbClr val="cc00cc"/>
              </a:gs>
              <a:gs pos="100000">
                <a:srgbClr val="8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YOU WILL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 strong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8:40:53Z</dcterms:created>
  <dc:creator>Manager</dc:creator>
  <dc:description/>
  <dc:language>en-US</dc:language>
  <cp:lastModifiedBy>Mills</cp:lastModifiedBy>
  <dcterms:modified xsi:type="dcterms:W3CDTF">2004-12-23T11:27:42Z</dcterms:modified>
  <cp:revision>7</cp:revision>
  <dc:subject/>
  <dc:title>Slide 1</dc:title>
</cp:coreProperties>
</file>