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838-D4F4-4A66-8E46-198E1410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970-869E-4004-9F5C-0102DA80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239-69BE-44C2-B65D-5A7D64A3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FAA-D3AC-4CA6-BC7A-2336BCDD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AD0-ABA9-44A7-B45F-AAB89405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61D-65B1-48CB-9851-53A72E4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909-2AE9-47BA-AD0D-B30F6B4E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99B-FADF-4C3C-A327-FA98DFCF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EB51-7ACF-4EC0-9BE0-A08E0851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D3B-2081-4C21-929A-B68D0EE4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F4C-FF2B-4376-AEDD-80F3D34F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7BA-DF95-4EC2-B318-76ABCBC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212-7EA4-4D7D-9718-8C8779F833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765000"/>
            <a:ext cx="6265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C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00360" y="2708280"/>
            <a:ext cx="3384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450864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165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3D (Presentatio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4414680"/>
            <a:ext cx="1871640" cy="17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1844640"/>
            <a:ext cx="8064360" cy="2089080"/>
          </a:xfrm>
          <a:custGeom>
            <a:avLst/>
            <a:gdLst>
              <a:gd name="textAreaLeft" fmla="*/ 0 w 8064360"/>
              <a:gd name="textAreaRight" fmla="*/ 8064720 w 806436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know that there are different types of so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822680" cy="3201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26028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different types of soil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341360"/>
            <a:ext cx="5904000" cy="863640"/>
          </a:xfrm>
          <a:prstGeom prst="wedgeRoundRectCallout">
            <a:avLst>
              <a:gd name="adj1" fmla="val 56615"/>
              <a:gd name="adj2" fmla="val 239337"/>
              <a:gd name="adj3" fmla="val 16667"/>
            </a:avLst>
          </a:prstGeom>
          <a:gradFill rotWithShape="0">
            <a:gsLst>
              <a:gs pos="0">
                <a:srgbClr val="cc0099"/>
              </a:gs>
              <a:gs pos="100000">
                <a:srgbClr val="9900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link between the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l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421000"/>
            <a:ext cx="3311280" cy="792000"/>
          </a:xfrm>
          <a:custGeom>
            <a:avLst/>
            <a:gdLst>
              <a:gd name="textAreaLeft" fmla="*/ 727920 w 3311280"/>
              <a:gd name="textAreaRight" fmla="*/ 2583360 w 331128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 of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221000"/>
            <a:ext cx="4105440" cy="503280"/>
          </a:xfrm>
          <a:prstGeom prst="parallelogram">
            <a:avLst>
              <a:gd name="adj" fmla="val 20393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container of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3429000"/>
            <a:ext cx="4464360" cy="720720"/>
          </a:xfrm>
          <a:prstGeom prst="hexagon">
            <a:avLst>
              <a:gd name="adj" fmla="val 154858"/>
              <a:gd name="vf" fmla="val 115470"/>
            </a:avLst>
          </a:prstGeom>
          <a:gradFill rotWithShape="0">
            <a:gsLst>
              <a:gs pos="0">
                <a:srgbClr val="6600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tainer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941720"/>
            <a:ext cx="3240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ead plant (a w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5013360"/>
            <a:ext cx="2592360" cy="1081080"/>
          </a:xfrm>
          <a:prstGeom prst="octagon">
            <a:avLst>
              <a:gd name="adj" fmla="val 2928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me cru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48360" y="2133720"/>
            <a:ext cx="1822680" cy="3201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26028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different types of soil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1341360"/>
            <a:ext cx="5472360" cy="1295640"/>
          </a:xfrm>
          <a:prstGeom prst="wedgeRoundRectCallout">
            <a:avLst>
              <a:gd name="adj1" fmla="val 60268"/>
              <a:gd name="adj2" fmla="val 156250"/>
              <a:gd name="adj3" fmla="val 16667"/>
            </a:avLst>
          </a:prstGeom>
          <a:gradFill rotWithShape="0">
            <a:gsLst>
              <a:gs pos="0">
                <a:srgbClr val="cc0066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i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x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ny piec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have become mix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aying pl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2997360"/>
            <a:ext cx="5689800" cy="1295280"/>
          </a:xfrm>
          <a:prstGeom prst="wedgeRoundRectCallout">
            <a:avLst>
              <a:gd name="adj1" fmla="val 74189"/>
              <a:gd name="adj2" fmla="val 33333"/>
              <a:gd name="adj3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aying pl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veget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ome a substance 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`humus`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581360"/>
            <a:ext cx="5905440" cy="935280"/>
          </a:xfrm>
          <a:prstGeom prst="wedgeRoundRectCallout">
            <a:avLst>
              <a:gd name="adj1" fmla="val 68708"/>
              <a:gd name="adj2" fmla="val -105856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`humus`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c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th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gether and absorbs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734080"/>
            <a:ext cx="8424720" cy="981000"/>
          </a:xfrm>
          <a:prstGeom prst="wedgeRoundRectCallout">
            <a:avLst>
              <a:gd name="adj1" fmla="val 31666"/>
              <a:gd name="adj2" fmla="val -215856"/>
              <a:gd name="adj3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mixture slowly changes &amp; becomes a habitat for living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822680" cy="3201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03280" y="26028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different types of soil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341360"/>
            <a:ext cx="5904000" cy="647640"/>
          </a:xfrm>
          <a:prstGeom prst="wedgeRoundRectCallout">
            <a:avLst>
              <a:gd name="adj1" fmla="val 56615"/>
              <a:gd name="adj2" fmla="val 335782"/>
              <a:gd name="adj3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t these items in o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421000"/>
            <a:ext cx="3311280" cy="792000"/>
          </a:xfrm>
          <a:custGeom>
            <a:avLst/>
            <a:gdLst>
              <a:gd name="textAreaLeft" fmla="*/ 727920 w 3311280"/>
              <a:gd name="textAreaRight" fmla="*/ 2583360 w 331128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 of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4221000"/>
            <a:ext cx="4105440" cy="503280"/>
          </a:xfrm>
          <a:prstGeom prst="parallelogram">
            <a:avLst>
              <a:gd name="adj" fmla="val 20393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 container of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429000"/>
            <a:ext cx="4464360" cy="720720"/>
          </a:xfrm>
          <a:prstGeom prst="hexagon">
            <a:avLst>
              <a:gd name="adj" fmla="val 154858"/>
              <a:gd name="vf" fmla="val 115470"/>
            </a:avLst>
          </a:prstGeom>
          <a:gradFill rotWithShape="0">
            <a:gsLst>
              <a:gs pos="0">
                <a:srgbClr val="6600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ontainer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941720"/>
            <a:ext cx="3240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ead plant (a w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5013360"/>
            <a:ext cx="2592360" cy="1081080"/>
          </a:xfrm>
          <a:prstGeom prst="octagon">
            <a:avLst>
              <a:gd name="adj" fmla="val 2928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me cru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03280" y="26028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different types of soil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948360" y="2060640"/>
            <a:ext cx="1822680" cy="320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700280"/>
            <a:ext cx="6553080" cy="936720"/>
          </a:xfrm>
          <a:prstGeom prst="wedgeRoundRectCallout">
            <a:avLst>
              <a:gd name="adj1" fmla="val 54361"/>
              <a:gd name="adj2" fmla="val 195083"/>
              <a:gd name="adj3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raw a set of diagrams to explain how soil is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03280" y="26028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know that there are different types of soil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268280"/>
            <a:ext cx="4464000" cy="936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948360" y="2421000"/>
            <a:ext cx="1822680" cy="3201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56000" y="2349360"/>
            <a:ext cx="3600360" cy="1441440"/>
          </a:xfrm>
          <a:prstGeom prst="wedgeRoundRectCallout">
            <a:avLst>
              <a:gd name="adj1" fmla="val 76013"/>
              <a:gd name="adj2" fmla="val 81166"/>
              <a:gd name="adj3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llect soils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 the school gr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4653000"/>
            <a:ext cx="5113440" cy="576360"/>
          </a:xfrm>
          <a:prstGeom prst="wedgeRoundRectCallout">
            <a:avLst>
              <a:gd name="adj1" fmla="val 51333"/>
              <a:gd name="adj2" fmla="val -103717"/>
              <a:gd name="adj3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each type of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52:41Z</dcterms:created>
  <dc:creator>Manager</dc:creator>
  <dc:description/>
  <dc:language>en-US</dc:language>
  <cp:lastModifiedBy>user</cp:lastModifiedBy>
  <dcterms:modified xsi:type="dcterms:W3CDTF">2004-12-07T15:13:47Z</dcterms:modified>
  <cp:revision>6</cp:revision>
  <dc:subject/>
  <dc:title>Slide 1</dc:title>
</cp:coreProperties>
</file>