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4D5-1716-46A7-ABE2-FC288CD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FC0-6D0E-433B-9724-25D307D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F00-C4AE-49FE-8D6B-44203C3E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674-ED4B-4FD9-A901-0B1AAD4F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3B9-9F3B-4C8A-899F-1F69EF76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252-EB89-4B3B-A0C5-A34AE5F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14D-E4A5-4F98-BF18-921E284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7AD-B626-4F83-8ABC-1BD64A0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592-9631-4EEB-A6B2-BD170049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CF9-3AD2-44D4-AAE8-FC5E66D9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607-13F7-45EE-B31B-44AA6B27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47F-6C79-45D2-9F4D-E1407B3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8E7-992F-4821-9196-AA2BB15E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76500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C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708280"/>
            <a:ext cx="3384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450864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3D (Presentation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5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.) Lim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4508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b.)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59500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.) 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5805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d.) Mar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62864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long with sand what else could be used to make g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16360" y="4243320"/>
            <a:ext cx="1150920" cy="820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659640" y="5589720"/>
            <a:ext cx="950760" cy="760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843280" y="5589720"/>
            <a:ext cx="1224000" cy="920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659640" y="4338720"/>
            <a:ext cx="974520" cy="8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435640" y="1700280"/>
            <a:ext cx="1071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6920" y="1844640"/>
            <a:ext cx="777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WELL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YOU HAVE THE CORRECT ANSWER!!!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667640" y="558972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2" h="21600">
                <a:moveTo>
                  <a:pt x="4525" y="3794"/>
                </a:moveTo>
                <a:lnTo>
                  <a:pt x="18538" y="10800"/>
                </a:lnTo>
                <a:lnTo>
                  <a:pt x="4525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56920" y="602136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for the next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03280" y="27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INCORRECT!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80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5516640"/>
            <a:ext cx="1224000" cy="108108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4455" h="21600">
                <a:moveTo>
                  <a:pt x="0" y="0"/>
                </a:moveTo>
                <a:lnTo>
                  <a:pt x="24455" y="0"/>
                </a:lnTo>
                <a:lnTo>
                  <a:pt x="24455" y="21600"/>
                </a:lnTo>
                <a:lnTo>
                  <a:pt x="0" y="21600"/>
                </a:lnTo>
                <a:close/>
              </a:path>
              <a:path fill="lightenLess" w="24455" h="21600">
                <a:moveTo>
                  <a:pt x="0" y="0"/>
                </a:moveTo>
                <a:lnTo>
                  <a:pt x="24455" y="0"/>
                </a:lnTo>
                <a:lnTo>
                  <a:pt x="23055" y="1400"/>
                </a:lnTo>
                <a:lnTo>
                  <a:pt x="1400" y="1400"/>
                </a:lnTo>
                <a:close/>
              </a:path>
              <a:path fill="darken" w="24455" h="21600">
                <a:moveTo>
                  <a:pt x="24455" y="0"/>
                </a:moveTo>
                <a:lnTo>
                  <a:pt x="24455" y="21600"/>
                </a:lnTo>
                <a:lnTo>
                  <a:pt x="23055" y="20200"/>
                </a:lnTo>
                <a:lnTo>
                  <a:pt x="23055" y="1400"/>
                </a:lnTo>
                <a:close/>
              </a:path>
              <a:path fill="darkenLess" w="24455" h="21600">
                <a:moveTo>
                  <a:pt x="24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5" y="20200"/>
                </a:lnTo>
                <a:close/>
              </a:path>
              <a:path fill="lighten" w="24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5" h="21600">
                <a:moveTo>
                  <a:pt x="5221" y="10800"/>
                </a:moveTo>
                <a:lnTo>
                  <a:pt x="19234" y="3794"/>
                </a:lnTo>
                <a:lnTo>
                  <a:pt x="19234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916280"/>
            <a:ext cx="8064720" cy="2089080"/>
          </a:xfrm>
          <a:custGeom>
            <a:avLst/>
            <a:gdLst>
              <a:gd name="textAreaLeft" fmla="*/ 0 w 8064720"/>
              <a:gd name="textAreaRight" fmla="*/ 8065080 w 8064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ff505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know that rocks are chose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ular purposes because of their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0992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45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.) Lim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508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b.)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59500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.) 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5805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d.) Mar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16360" y="4243320"/>
            <a:ext cx="1150920" cy="82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59640" y="5589720"/>
            <a:ext cx="950760" cy="760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843280" y="5589720"/>
            <a:ext cx="122400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659640" y="4338720"/>
            <a:ext cx="974520" cy="88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1628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mputer will give you some different jobs for rocks.  You need to click on the type of rock(s) that will best do that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11280" y="45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.) Lim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50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b.) 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551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.) Mar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484720" cy="272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4360" y="1628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hich of these rocks would be best suited for using to make this stat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916360" y="4243320"/>
            <a:ext cx="1150920" cy="820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0" y="5373720"/>
            <a:ext cx="950760" cy="76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12000" y="4221000"/>
            <a:ext cx="12240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26920" y="1844640"/>
            <a:ext cx="777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WELL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YOU HAVE THE CORRECT ANSWER!!!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67640" y="558972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2" h="21600">
                <a:moveTo>
                  <a:pt x="4525" y="3794"/>
                </a:moveTo>
                <a:lnTo>
                  <a:pt x="18538" y="10800"/>
                </a:lnTo>
                <a:lnTo>
                  <a:pt x="4525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6920" y="602136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for the next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27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INCORRECT!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64000" y="580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524720" y="5516640"/>
            <a:ext cx="1224000" cy="108108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4455" h="21600">
                <a:moveTo>
                  <a:pt x="0" y="0"/>
                </a:moveTo>
                <a:lnTo>
                  <a:pt x="24455" y="0"/>
                </a:lnTo>
                <a:lnTo>
                  <a:pt x="24455" y="21600"/>
                </a:lnTo>
                <a:lnTo>
                  <a:pt x="0" y="21600"/>
                </a:lnTo>
                <a:close/>
              </a:path>
              <a:path fill="lightenLess" w="24455" h="21600">
                <a:moveTo>
                  <a:pt x="0" y="0"/>
                </a:moveTo>
                <a:lnTo>
                  <a:pt x="24455" y="0"/>
                </a:lnTo>
                <a:lnTo>
                  <a:pt x="23055" y="1400"/>
                </a:lnTo>
                <a:lnTo>
                  <a:pt x="1400" y="1400"/>
                </a:lnTo>
                <a:close/>
              </a:path>
              <a:path fill="darken" w="24455" h="21600">
                <a:moveTo>
                  <a:pt x="24455" y="0"/>
                </a:moveTo>
                <a:lnTo>
                  <a:pt x="24455" y="21600"/>
                </a:lnTo>
                <a:lnTo>
                  <a:pt x="23055" y="20200"/>
                </a:lnTo>
                <a:lnTo>
                  <a:pt x="23055" y="1400"/>
                </a:lnTo>
                <a:close/>
              </a:path>
              <a:path fill="darkenLess" w="24455" h="21600">
                <a:moveTo>
                  <a:pt x="24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5" y="20200"/>
                </a:lnTo>
                <a:close/>
              </a:path>
              <a:path fill="lighten" w="24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5" h="21600">
                <a:moveTo>
                  <a:pt x="5221" y="10800"/>
                </a:moveTo>
                <a:lnTo>
                  <a:pt x="19234" y="3794"/>
                </a:lnTo>
                <a:lnTo>
                  <a:pt x="19234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45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.) Lime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4508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b.)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59500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.) 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5805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d.) Mar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162864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Which of these rocks would be best suited for using to make tiles for a ro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16360" y="4243320"/>
            <a:ext cx="1150920" cy="820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5589720"/>
            <a:ext cx="950760" cy="76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5589720"/>
            <a:ext cx="1224000" cy="92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59640" y="4338720"/>
            <a:ext cx="9745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844640"/>
            <a:ext cx="777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WELL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YOU HAVE THE CORRECT ANSWER!!!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5589720"/>
            <a:ext cx="1152360" cy="1079280"/>
          </a:xfrm>
          <a:custGeom>
            <a:avLst/>
            <a:gdLst>
              <a:gd name="textAreaLeft" fmla="*/ 69840 w 1152360"/>
              <a:gd name="textAreaRight" fmla="*/ 1082520 w 1152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3062" h="21600">
                <a:moveTo>
                  <a:pt x="0" y="0"/>
                </a:moveTo>
                <a:lnTo>
                  <a:pt x="23062" y="0"/>
                </a:lnTo>
                <a:lnTo>
                  <a:pt x="23062" y="21600"/>
                </a:lnTo>
                <a:lnTo>
                  <a:pt x="0" y="21600"/>
                </a:lnTo>
                <a:close/>
              </a:path>
              <a:path fill="lightenLess" w="23062" h="21600">
                <a:moveTo>
                  <a:pt x="0" y="0"/>
                </a:moveTo>
                <a:lnTo>
                  <a:pt x="23062" y="0"/>
                </a:lnTo>
                <a:lnTo>
                  <a:pt x="21662" y="1400"/>
                </a:lnTo>
                <a:lnTo>
                  <a:pt x="1400" y="1400"/>
                </a:lnTo>
                <a:close/>
              </a:path>
              <a:path fill="darken" w="23062" h="21600">
                <a:moveTo>
                  <a:pt x="23062" y="0"/>
                </a:moveTo>
                <a:lnTo>
                  <a:pt x="23062" y="21600"/>
                </a:lnTo>
                <a:lnTo>
                  <a:pt x="21662" y="20200"/>
                </a:lnTo>
                <a:lnTo>
                  <a:pt x="21662" y="1400"/>
                </a:lnTo>
                <a:close/>
              </a:path>
              <a:path fill="darkenLess" w="23062" h="21600">
                <a:moveTo>
                  <a:pt x="23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2" y="20200"/>
                </a:lnTo>
                <a:close/>
              </a:path>
              <a:path fill="lighten" w="23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2" h="21600">
                <a:moveTo>
                  <a:pt x="4525" y="3794"/>
                </a:moveTo>
                <a:lnTo>
                  <a:pt x="18538" y="10800"/>
                </a:lnTo>
                <a:lnTo>
                  <a:pt x="4525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56920" y="602136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for the next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27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INCORRECT!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5805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omic Sans MS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5516640"/>
            <a:ext cx="1224000" cy="108108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24455" h="21600">
                <a:moveTo>
                  <a:pt x="0" y="0"/>
                </a:moveTo>
                <a:lnTo>
                  <a:pt x="24455" y="0"/>
                </a:lnTo>
                <a:lnTo>
                  <a:pt x="24455" y="21600"/>
                </a:lnTo>
                <a:lnTo>
                  <a:pt x="0" y="21600"/>
                </a:lnTo>
                <a:close/>
              </a:path>
              <a:path fill="lightenLess" w="24455" h="21600">
                <a:moveTo>
                  <a:pt x="0" y="0"/>
                </a:moveTo>
                <a:lnTo>
                  <a:pt x="24455" y="0"/>
                </a:lnTo>
                <a:lnTo>
                  <a:pt x="23055" y="1400"/>
                </a:lnTo>
                <a:lnTo>
                  <a:pt x="1400" y="1400"/>
                </a:lnTo>
                <a:close/>
              </a:path>
              <a:path fill="darken" w="24455" h="21600">
                <a:moveTo>
                  <a:pt x="24455" y="0"/>
                </a:moveTo>
                <a:lnTo>
                  <a:pt x="24455" y="21600"/>
                </a:lnTo>
                <a:lnTo>
                  <a:pt x="23055" y="20200"/>
                </a:lnTo>
                <a:lnTo>
                  <a:pt x="23055" y="1400"/>
                </a:lnTo>
                <a:close/>
              </a:path>
              <a:path fill="darkenLess" w="24455" h="21600">
                <a:moveTo>
                  <a:pt x="24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5" y="20200"/>
                </a:lnTo>
                <a:close/>
              </a:path>
              <a:path fill="lighten" w="24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5" h="21600">
                <a:moveTo>
                  <a:pt x="5221" y="10800"/>
                </a:moveTo>
                <a:lnTo>
                  <a:pt x="19234" y="3794"/>
                </a:lnTo>
                <a:lnTo>
                  <a:pt x="19234" y="1780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1:19:03Z</dcterms:created>
  <dc:creator>Manager</dc:creator>
  <dc:description/>
  <dc:language>en-US</dc:language>
  <cp:lastModifiedBy>Manager</cp:lastModifiedBy>
  <dcterms:modified xsi:type="dcterms:W3CDTF">2004-12-03T10:52:01Z</dcterms:modified>
  <cp:revision>9</cp:revision>
  <dc:subject/>
  <dc:title>Slide 1</dc:title>
</cp:coreProperties>
</file>