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BD6-876F-4E58-A6CC-8B3DDD9C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688-3813-423B-9E15-3F86076D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330-4352-49E4-82A8-C4A26D04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4FD-182C-43D3-AB62-093F2F90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21D-C817-41E2-92AC-279803CE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FC6-D31C-4B2D-95AA-BFF1CA7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24B-8DED-4E5E-8896-A749CB3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C9E-C525-4677-A8C9-1DC814E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3E9-F077-4C5A-B19F-686515DE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C90-7A58-4280-BFCD-CD4938E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E90-BECC-484D-8766-F70D15A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448-FCA2-4668-B852-395240F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5AF-EAB2-47A8-8481-FEAF105C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4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1197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321300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5661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5F Changing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8749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1197000"/>
            <a:ext cx="1503360" cy="446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927000" cy="2476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92360" y="558972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instrument which produces the lower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51280" y="1413000"/>
            <a:ext cx="927000" cy="2476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4365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luck! Click on the violin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150336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40360" y="3429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1197000"/>
            <a:ext cx="1503360" cy="4465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927000" cy="247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8000" y="55897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ther a sound i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called its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2637000"/>
            <a:ext cx="5977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pit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9242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ans how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sound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1212840" cy="3601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19280" y="4797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music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igg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instrument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1212840" cy="360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19280" y="4797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music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mal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instrument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1212840" cy="3601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19280" y="4797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ings on the double bass are much longer and looser than those on the vio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1212840" cy="360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9280" y="4797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 of this, they vibrate more……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3640" y="54936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924280"/>
            <a:ext cx="6337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over why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s have different p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1197000"/>
            <a:ext cx="1212840" cy="3602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19280" y="537372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the double bass which has the correc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19640" y="1197000"/>
            <a:ext cx="1189080" cy="3529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95640" y="47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4653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1212840" cy="3602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835280" y="4941720"/>
            <a:ext cx="60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 luck! Try again by clicking on the double b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1125360"/>
            <a:ext cx="1212840" cy="3602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63640" y="47242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35280" y="386064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ings on the violin are muc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igh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ose of the double b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124000" y="350028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ause of this they vibrate more 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728640" cy="1944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72900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378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486900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the violin which shows the correc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908000" y="4437000"/>
            <a:ext cx="59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again by clicking on the vio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276720" y="378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1212840" cy="3602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47640" y="4572000"/>
            <a:ext cx="6697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string vibrates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uic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string vibrates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1212840" cy="3602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763640" y="479736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ng players make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 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putting their fingers on the st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1212840" cy="3602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63640" y="479736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makes the string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t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so it vibrates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uick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produce a high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1212840" cy="3602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728640" cy="194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92360" y="4572000"/>
            <a:ext cx="6337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ing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ng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string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558720" cy="5973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908000" y="2060640"/>
            <a:ext cx="5472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corder makes a sound when the player blows in the mouthp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makes the air inside its tube vib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558720" cy="59738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08000" y="206064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537372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n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be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6588000" y="620640"/>
            <a:ext cx="1992600" cy="4824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4360" y="1773360"/>
            <a:ext cx="780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re holes the player 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his fing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n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558720" cy="5973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08000" y="206064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22050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les the player covers with his fingers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35280" y="414972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be, the higher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it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558720" cy="5973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08000" y="2060640"/>
            <a:ext cx="547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280" y="2205000"/>
            <a:ext cx="59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35280" y="15573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2360" y="270828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produces the lower pitch? Click on the correct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2556000" y="4005360"/>
            <a:ext cx="774720" cy="2303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5076720" y="4221000"/>
            <a:ext cx="378000" cy="1008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268360" y="602136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3236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o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284720" y="2060640"/>
            <a:ext cx="377640" cy="100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411280" y="4149720"/>
            <a:ext cx="43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re wrong. Click on the violin to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774720" cy="2303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5640" y="41497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2205000"/>
            <a:ext cx="61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onger the string, the ………..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8000" y="2205000"/>
            <a:ext cx="61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onger the string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1611360" cy="185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960120" cy="244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4292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ne makes the higher s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24000" y="2492280"/>
            <a:ext cx="5761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horter the string, the ...........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249228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horter the string, th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ig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1628640"/>
            <a:ext cx="5904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e is an investigation for you to 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a large elastic band over a box and pluck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put a smaller elastic band over the same box and pluck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35280" y="1989000"/>
            <a:ext cx="57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 sound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explain your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35280" y="1989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luck with your inves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95640" y="1700280"/>
            <a:ext cx="1611360" cy="185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1640" y="1341360"/>
            <a:ext cx="960120" cy="244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4292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picture which makes the higher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1341360"/>
            <a:ext cx="960480" cy="2444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0920" y="4076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ry, you are incorrect. Click on the soldier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462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189160" cy="252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4221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503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1503360" cy="4465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2360" y="558972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sound icon to hear the double b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68360" y="213372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0176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260280"/>
            <a:ext cx="5834160" cy="692280"/>
          </a:xfrm>
          <a:prstGeom prst="wedgeRectCallout">
            <a:avLst>
              <a:gd name="adj1" fmla="val -49509"/>
              <a:gd name="adj2" fmla="val 102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To discover why different sounds have different pit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292640"/>
            <a:ext cx="1008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427640"/>
            <a:ext cx="108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89360"/>
            <a:ext cx="14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8936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51280" y="1413000"/>
            <a:ext cx="927000" cy="2476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92360" y="558972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sound icon to hear the violin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8294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3:12:52Z</dcterms:created>
  <dc:creator>Mills</dc:creator>
  <dc:description/>
  <dc:language>en-US</dc:language>
  <cp:lastModifiedBy>Mills</cp:lastModifiedBy>
  <dcterms:modified xsi:type="dcterms:W3CDTF">2004-12-15T13:16:42Z</dcterms:modified>
  <cp:revision>14</cp:revision>
  <dc:subject/>
  <dc:title>Slide 1</dc:title>
</cp:coreProperties>
</file>