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666-1D5A-45DE-90FF-5FB30602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5AB-4272-4150-9790-2532BB4E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A79-836D-4AAB-A80B-065F4DD2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DDE-D7CB-46C8-B00C-2409466C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6FD-20C7-48F0-A90B-95D9204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7E5-58AB-4E99-AB2F-7E6E42C4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A17-2597-486B-A60B-DC21A8D6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00B-B475-4AF3-9474-61B0E64E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2AF-B344-4FBF-B731-B0A58DB8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106-0B65-4E1A-BF2D-351AFE2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8AE-5A5F-453F-BD01-6DA0853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91C-F818-4F99-ABBA-0A2DAEE1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012E-8D6C-464D-9CF5-997D6B24B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852640"/>
            <a:ext cx="770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OLIDS AND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76360" y="1341360"/>
          <a:ext cx="19558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1955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6732720" y="4724280"/>
          <a:ext cx="85536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4724280"/>
                    <a:ext cx="8553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042920" y="6237360"/>
            <a:ext cx="52578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t 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 or liqu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562720" y="2286000"/>
          <a:ext cx="6097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609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800600" y="2438280"/>
            <a:ext cx="373392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438280"/>
            <a:ext cx="37339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010280" y="3200400"/>
          <a:ext cx="121932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200400"/>
                    <a:ext cx="12193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172200" y="3352680"/>
          <a:ext cx="7272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352680"/>
                    <a:ext cx="727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14400" y="3124080"/>
          <a:ext cx="1600200" cy="8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124080"/>
                    <a:ext cx="16002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590920" y="3048120"/>
          <a:ext cx="144756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048120"/>
                    <a:ext cx="14475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133720" y="4114800"/>
          <a:ext cx="931680" cy="13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4114800"/>
                    <a:ext cx="9316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05120" y="990720"/>
          <a:ext cx="1904760" cy="1287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5120" y="990720"/>
                    <a:ext cx="19047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858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 or liqu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562720" y="2286000"/>
          <a:ext cx="6097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609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800600" y="2438280"/>
            <a:ext cx="373392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438280"/>
            <a:ext cx="37339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010280" y="3200400"/>
          <a:ext cx="121932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200400"/>
                    <a:ext cx="12193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3352680"/>
          <a:ext cx="7272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352680"/>
                    <a:ext cx="727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914400" y="3124080"/>
          <a:ext cx="1600200" cy="8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124080"/>
                    <a:ext cx="16002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590920" y="3048120"/>
          <a:ext cx="144756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048120"/>
                    <a:ext cx="14475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33720" y="4114800"/>
          <a:ext cx="931680" cy="13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4114800"/>
                    <a:ext cx="9316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715000" y="4800600"/>
          <a:ext cx="1905120" cy="1287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4800600"/>
                    <a:ext cx="19051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971800" y="5372280"/>
          <a:ext cx="1143000" cy="952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372280"/>
                    <a:ext cx="114300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90720" y="5486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ce (before it mel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133720" y="571464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o recognise the properties of different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3880" y="1390680"/>
          <a:ext cx="59644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59644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04920" y="1219320"/>
            <a:ext cx="85341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295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Name of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295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048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648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181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6386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828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12952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732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1219320"/>
            <a:ext cx="380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29600" y="1219320"/>
            <a:ext cx="380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80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o recognise the properties of different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523880" y="1390680"/>
          <a:ext cx="59644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59644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304920" y="1219320"/>
            <a:ext cx="85341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295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Name of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1295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048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4648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5181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56386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828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12952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1219320"/>
            <a:ext cx="380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29600" y="1219320"/>
            <a:ext cx="380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1828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eeps it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o recognise the properties of different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3880" y="1390680"/>
          <a:ext cx="59644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59644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04920" y="1219320"/>
            <a:ext cx="85341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295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Name of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1295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048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4648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5181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6386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1828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12952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219320"/>
            <a:ext cx="380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29600" y="1219320"/>
            <a:ext cx="380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1828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eeps it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19051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o recognise the properties of different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3880" y="1390680"/>
          <a:ext cx="59644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59644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04920" y="1219320"/>
            <a:ext cx="853416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295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Name of mat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1295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18288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3048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36576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6483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51814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56386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828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12952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77320" y="12193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1219320"/>
            <a:ext cx="380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29600" y="1219320"/>
            <a:ext cx="380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8288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eeps it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9051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3048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373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1911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lastic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457200"/>
            <a:ext cx="2981160" cy="6040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429000" y="457200"/>
            <a:ext cx="5257800" cy="2133720"/>
          </a:xfrm>
          <a:prstGeom prst="wedgeEllipseCallout">
            <a:avLst>
              <a:gd name="adj1" fmla="val -66032"/>
              <a:gd name="adj2" fmla="val 517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all the liquids in you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 the same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457200"/>
            <a:ext cx="2981160" cy="6040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429000" y="457200"/>
            <a:ext cx="5257800" cy="2133720"/>
          </a:xfrm>
          <a:prstGeom prst="wedgeEllipseCallout">
            <a:avLst>
              <a:gd name="adj1" fmla="val -66032"/>
              <a:gd name="adj2" fmla="val 5178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all the solids in you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 the same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2981160" cy="6040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029200" y="762120"/>
            <a:ext cx="3886200" cy="2209680"/>
          </a:xfrm>
          <a:prstGeom prst="wedgeEllipseCallout">
            <a:avLst>
              <a:gd name="adj1" fmla="val -66787"/>
              <a:gd name="adj2" fmla="val 2758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does y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 tell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out sorting solid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429000" cy="3267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2680" y="1752480"/>
            <a:ext cx="4724640" cy="28195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be able to sort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to liquids and soli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plaining the reaso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r cho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457200"/>
            <a:ext cx="2981160" cy="6040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533520"/>
            <a:ext cx="4724640" cy="1981080"/>
          </a:xfrm>
          <a:prstGeom prst="wedgeEllipseCallout">
            <a:avLst>
              <a:gd name="adj1" fmla="val -81652"/>
              <a:gd name="adj2" fmla="val 55611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can you tell me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 or liqu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457200"/>
            <a:ext cx="2981160" cy="6040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505320" y="2133720"/>
            <a:ext cx="5105160" cy="1981080"/>
          </a:xfrm>
          <a:prstGeom prst="wedgeEllipseCallout">
            <a:avLst>
              <a:gd name="adj1" fmla="val -68842"/>
              <a:gd name="adj2" fmla="val -25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e if you can tell 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se material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 or liqu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04920"/>
            <a:ext cx="3809880" cy="1371600"/>
          </a:xfrm>
          <a:prstGeom prst="cloudCallout">
            <a:avLst>
              <a:gd name="adj1" fmla="val -71875"/>
              <a:gd name="adj2" fmla="val 758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bet they can’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447920" y="1066680"/>
          <a:ext cx="133668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6680"/>
                    <a:ext cx="13366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335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 or liqu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457200"/>
          <a:ext cx="6097320" cy="407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57200"/>
                    <a:ext cx="609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800600" y="2438280"/>
            <a:ext cx="373392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37339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 or liqu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562720" y="2286000"/>
          <a:ext cx="6097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609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800600" y="2438280"/>
            <a:ext cx="373392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438280"/>
            <a:ext cx="37339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010280" y="3200400"/>
          <a:ext cx="121932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200400"/>
                    <a:ext cx="12193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52480" y="762120"/>
          <a:ext cx="8557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762120"/>
                    <a:ext cx="8557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1371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 or liqu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562720" y="2286000"/>
          <a:ext cx="6097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609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800600" y="2438280"/>
            <a:ext cx="373392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438280"/>
            <a:ext cx="37339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010280" y="3200400"/>
          <a:ext cx="121932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200400"/>
                    <a:ext cx="12193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172200" y="3352680"/>
          <a:ext cx="7272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352680"/>
                    <a:ext cx="727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124080" y="1143000"/>
          <a:ext cx="1955880" cy="10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143000"/>
                    <a:ext cx="1955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85800" y="1447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lanks of w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 or liqu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562720" y="2286000"/>
          <a:ext cx="6097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609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800600" y="2438280"/>
            <a:ext cx="373392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38280"/>
            <a:ext cx="37339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010280" y="3200400"/>
          <a:ext cx="121932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200400"/>
                    <a:ext cx="12193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72200" y="3352680"/>
          <a:ext cx="7272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352680"/>
                    <a:ext cx="727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3124080"/>
          <a:ext cx="1600200" cy="8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124080"/>
                    <a:ext cx="16002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057400" y="990720"/>
          <a:ext cx="1820880" cy="116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990720"/>
                    <a:ext cx="18208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3520" y="1066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tin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 or liqu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562720" y="2286000"/>
          <a:ext cx="6097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86000"/>
                    <a:ext cx="6097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800600" y="2438280"/>
            <a:ext cx="373392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438280"/>
            <a:ext cx="37339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274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010280" y="3200400"/>
          <a:ext cx="1219320" cy="11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200400"/>
                    <a:ext cx="12193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172200" y="3352680"/>
          <a:ext cx="72720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352680"/>
                    <a:ext cx="7272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14400" y="3124080"/>
          <a:ext cx="1600200" cy="8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124080"/>
                    <a:ext cx="16002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590920" y="3048120"/>
          <a:ext cx="144756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048120"/>
                    <a:ext cx="14475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676520" y="838080"/>
          <a:ext cx="931680" cy="13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838080"/>
                    <a:ext cx="9316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33520" y="1066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16:30:15Z</dcterms:created>
  <dc:creator>Brian Miles</dc:creator>
  <dc:description/>
  <dc:language>en-US</dc:language>
  <cp:lastModifiedBy>Mills</cp:lastModifiedBy>
  <dcterms:modified xsi:type="dcterms:W3CDTF">2004-12-23T11:31:13Z</dcterms:modified>
  <cp:revision>10</cp:revision>
  <dc:subject/>
  <dc:title>No Slide Title</dc:title>
</cp:coreProperties>
</file>