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239-69AE-4101-9DD0-19CB61B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AA4-167B-4722-8366-DC069F4F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47D-CA0C-478B-B24C-F4E95D4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5E4-766D-45EA-AC2D-F647986C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273-17C8-4653-9C52-07900240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039-CB09-45FD-A726-A96058A3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49F-BB2E-4C08-9B7A-D9D8BB5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2EB-1133-43D0-92EA-673A950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500-BC30-4AAF-9308-9F7EF3DC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2C8-66D7-46BD-85FB-8A632EA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343-407A-4EBC-BED1-2A525E7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70E-9329-49C9-8CDC-F75256F0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4DA8-F56F-49F1-93C8-9345F972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765000"/>
            <a:ext cx="6265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C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00360" y="2708280"/>
            <a:ext cx="3384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450864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6165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3D (Presentation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26920" y="476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GROUP/ INDEPENDANT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349360"/>
            <a:ext cx="7921800" cy="4175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roup your rocks based on the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flipH="1">
            <a:off x="250920" y="3860640"/>
            <a:ext cx="1806480" cy="277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484280"/>
            <a:ext cx="6624720" cy="1584360"/>
          </a:xfrm>
          <a:prstGeom prst="wedgeRoundRectCallout">
            <a:avLst>
              <a:gd name="adj1" fmla="val -49953"/>
              <a:gd name="adj2" fmla="val 195388"/>
              <a:gd name="adj3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hat can you tell me abou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three main rock types…  See if you can find out some information about them using secondary sources such as the Inter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284640"/>
            <a:ext cx="3240360" cy="576000"/>
          </a:xfrm>
          <a:custGeom>
            <a:avLst/>
            <a:gdLst>
              <a:gd name="textAreaLeft" fmla="*/ 712440 w 3240360"/>
              <a:gd name="textAreaRight" fmla="*/ 2527920 w 3240360"/>
              <a:gd name="textAreaTop" fmla="*/ 126720 h 576000"/>
              <a:gd name="textAreaBottom" fmla="*/ 4492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g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4005360"/>
            <a:ext cx="4284720" cy="504720"/>
          </a:xfrm>
          <a:custGeom>
            <a:avLst/>
            <a:gdLst>
              <a:gd name="textAreaLeft" fmla="*/ 942120 w 4284720"/>
              <a:gd name="textAreaRight" fmla="*/ 3342600 w 4284720"/>
              <a:gd name="textAreaTop" fmla="*/ 110880 h 504720"/>
              <a:gd name="textAreaBottom" fmla="*/ 3938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ed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653000"/>
            <a:ext cx="4105080" cy="576360"/>
          </a:xfrm>
          <a:custGeom>
            <a:avLst/>
            <a:gdLst>
              <a:gd name="textAreaLeft" fmla="*/ 902520 w 4105080"/>
              <a:gd name="textAreaRight" fmla="*/ 3202560 w 4105080"/>
              <a:gd name="textAreaTop" fmla="*/ 126720 h 576360"/>
              <a:gd name="textAreaBottom" fmla="*/ 4496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tamor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589720"/>
            <a:ext cx="5688000" cy="863640"/>
          </a:xfrm>
          <a:prstGeom prst="wedgeRoundRectCallout">
            <a:avLst>
              <a:gd name="adj1" fmla="val -48606"/>
              <a:gd name="adj2" fmla="val -68750"/>
              <a:gd name="adj3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lick on each of the `Rock Types` to find out more inform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4797360"/>
            <a:ext cx="1440000" cy="180036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ER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O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126828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484280"/>
            <a:ext cx="4103640" cy="792360"/>
          </a:xfrm>
          <a:custGeom>
            <a:avLst/>
            <a:gdLst>
              <a:gd name="textAreaLeft" fmla="*/ 902160 w 4103640"/>
              <a:gd name="textAreaRight" fmla="*/ 3201480 w 4103640"/>
              <a:gd name="textAreaTop" fmla="*/ 174240 h 792360"/>
              <a:gd name="textAreaBottom" fmla="*/ 6181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gn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flipH="1">
            <a:off x="250920" y="3860640"/>
            <a:ext cx="1806480" cy="277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56000" y="2708280"/>
            <a:ext cx="6048360" cy="2233440"/>
          </a:xfrm>
          <a:prstGeom prst="wedgeRoundRectCallout">
            <a:avLst>
              <a:gd name="adj1" fmla="val -60472"/>
              <a:gd name="adj2" fmla="val 78287"/>
              <a:gd name="adj3" fmla="val 16667"/>
            </a:avLst>
          </a:prstGeom>
          <a:gradFill rotWithShape="0">
            <a:gsLst>
              <a:gs pos="0">
                <a:srgbClr val="cc0066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gneous rocks such as granite were formed from molten or partially molten materials during volcanic eruptions and make up nearly 95% of the Earth’s cru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5850000"/>
            <a:ext cx="4105440" cy="819000"/>
          </a:xfrm>
          <a:prstGeom prst="irregularSeal2">
            <a:avLst/>
          </a:prstGeom>
          <a:gradFill rotWithShape="0">
            <a:gsLst>
              <a:gs pos="0">
                <a:srgbClr val="000099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here to Slide 10go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26828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1484280"/>
            <a:ext cx="5580360" cy="936720"/>
          </a:xfrm>
          <a:custGeom>
            <a:avLst/>
            <a:gdLst>
              <a:gd name="textAreaLeft" fmla="*/ 1227240 w 5580360"/>
              <a:gd name="textAreaRight" fmla="*/ 4353120 w 558036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cc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ediment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 flipH="1">
            <a:off x="250920" y="3860640"/>
            <a:ext cx="1806480" cy="2770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43280" y="2637000"/>
            <a:ext cx="5759280" cy="3097080"/>
          </a:xfrm>
          <a:prstGeom prst="wedgeRoundRectCallout">
            <a:avLst>
              <a:gd name="adj1" fmla="val -64555"/>
              <a:gd name="adj2" fmla="val 36671"/>
              <a:gd name="adj3" fmla="val 16667"/>
            </a:avLst>
          </a:prstGeom>
          <a:gradFill rotWithShape="0">
            <a:gsLst>
              <a:gs pos="0">
                <a:srgbClr val="33ccff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dimentary rocks such as sandstone and limestone make up 5% of the earth’s crust and were formed when sediments settled and become compressed.  Sediments are solid bits that float in or sink to the bottom of liq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5850000"/>
            <a:ext cx="4105440" cy="819000"/>
          </a:xfrm>
          <a:prstGeom prst="irregularSeal2">
            <a:avLst/>
          </a:prstGeom>
          <a:gradFill rotWithShape="0">
            <a:gsLst>
              <a:gs pos="0">
                <a:srgbClr val="000099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here to go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126828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1341360"/>
            <a:ext cx="4897440" cy="1008000"/>
          </a:xfrm>
          <a:custGeom>
            <a:avLst/>
            <a:gdLst>
              <a:gd name="textAreaLeft" fmla="*/ 1076760 w 4897440"/>
              <a:gd name="textAreaRight" fmla="*/ 3820680 w 489744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tamor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flipH="1">
            <a:off x="250920" y="3860640"/>
            <a:ext cx="1806480" cy="2770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11280" y="2637000"/>
            <a:ext cx="6048360" cy="2447640"/>
          </a:xfrm>
          <a:prstGeom prst="wedgeRoundRectCallout">
            <a:avLst>
              <a:gd name="adj1" fmla="val -59763"/>
              <a:gd name="adj2" fmla="val 69388"/>
              <a:gd name="adj3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morphic rocks are made from igneous and sedimentary rocks that have gone through big changes due to heating or pressure, for example slate and mar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5850000"/>
            <a:ext cx="4105440" cy="819000"/>
          </a:xfrm>
          <a:prstGeom prst="irregularSeal2">
            <a:avLst/>
          </a:prstGeom>
          <a:gradFill rotWithShape="0">
            <a:gsLst>
              <a:gs pos="0">
                <a:srgbClr val="000099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here to go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4414680"/>
            <a:ext cx="1871640" cy="17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1916280"/>
            <a:ext cx="8064720" cy="2089080"/>
          </a:xfrm>
          <a:custGeom>
            <a:avLst/>
            <a:gdLst>
              <a:gd name="textAreaLeft" fmla="*/ 0 w 8064720"/>
              <a:gd name="textAreaRight" fmla="*/ 8065080 w 8064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ff99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be able to recognize and describe a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different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4221000"/>
            <a:ext cx="160992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08720" y="2565360"/>
            <a:ext cx="432000" cy="576360"/>
          </a:xfrm>
          <a:prstGeom prst="downArrow">
            <a:avLst>
              <a:gd name="adj1" fmla="val 50000"/>
              <a:gd name="adj2" fmla="val 33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88000" y="126828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1413000"/>
            <a:ext cx="25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r R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dhal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133720"/>
            <a:ext cx="5256000" cy="1224000"/>
          </a:xfrm>
          <a:prstGeom prst="wedgeRoundRectCallout">
            <a:avLst>
              <a:gd name="adj1" fmla="val 67759"/>
              <a:gd name="adj2" fmla="val 207328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one of the rocks from your table. Describe its characteristics to your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1311120" cy="230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96360" y="2565360"/>
            <a:ext cx="431640" cy="576360"/>
          </a:xfrm>
          <a:prstGeom prst="downArrow">
            <a:avLst>
              <a:gd name="adj1" fmla="val 50000"/>
              <a:gd name="adj2" fmla="val 33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126828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1413000"/>
            <a:ext cx="25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r R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dhall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484280"/>
            <a:ext cx="5688000" cy="865080"/>
          </a:xfrm>
          <a:prstGeom prst="wedgeRoundRectCallout">
            <a:avLst>
              <a:gd name="adj1" fmla="val 63925"/>
              <a:gd name="adj2" fmla="val 325412"/>
              <a:gd name="adj3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re are some things you can think about when you look at the rock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492280"/>
            <a:ext cx="3456000" cy="1081080"/>
          </a:xfrm>
          <a:custGeom>
            <a:avLst/>
            <a:gdLst>
              <a:gd name="textAreaLeft" fmla="*/ 0 w 3456000"/>
              <a:gd name="textAreaRight" fmla="*/ 3456360 w 345600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on the stars f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ail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573360"/>
            <a:ext cx="3313080" cy="1873440"/>
          </a:xfrm>
          <a:prstGeom prst="irregularSeal1">
            <a:avLst/>
          </a:prstGeom>
          <a:gradFill rotWithShape="0">
            <a:gsLst>
              <a:gs pos="0">
                <a:srgbClr val="ff00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iz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4005360"/>
            <a:ext cx="3311640" cy="2016000"/>
          </a:xfrm>
          <a:prstGeom prst="irregularSeal2">
            <a:avLst/>
          </a:prstGeom>
          <a:gradFill rotWithShape="0">
            <a:gsLst>
              <a:gs pos="0">
                <a:srgbClr val="00ff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hap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particl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445000"/>
            <a:ext cx="2879640" cy="81936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2987640" y="5950080"/>
            <a:ext cx="2519280" cy="720720"/>
          </a:xfrm>
          <a:prstGeom prst="irregularSeal2">
            <a:avLst/>
          </a:prstGeom>
          <a:gradFill rotWithShape="0">
            <a:gsLst>
              <a:gs pos="0">
                <a:srgbClr val="9933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8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59500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here to go to the next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47640" y="1341360"/>
            <a:ext cx="5545440" cy="2737080"/>
          </a:xfrm>
          <a:prstGeom prst="irregularSeal1">
            <a:avLst/>
          </a:prstGeom>
          <a:gradFill rotWithShape="0">
            <a:gsLst>
              <a:gs pos="0">
                <a:srgbClr val="ff00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ize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4437000"/>
            <a:ext cx="5905440" cy="1297080"/>
          </a:xfrm>
          <a:prstGeom prst="wedgeRoundRectCallout">
            <a:avLst>
              <a:gd name="adj1" fmla="val 61907"/>
              <a:gd name="adj2" fmla="val 12791"/>
              <a:gd name="adj3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large or small are the tiny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rock’s structur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3" action="ppaction://hlinksldjump"/>
          </p:cNvPr>
          <p:cNvSpPr/>
          <p:nvPr/>
        </p:nvSpPr>
        <p:spPr>
          <a:xfrm>
            <a:off x="2509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645000"/>
            <a:ext cx="5905440" cy="936360"/>
          </a:xfrm>
          <a:prstGeom prst="wedgeRoundRectCallout">
            <a:avLst>
              <a:gd name="adj1" fmla="val 61907"/>
              <a:gd name="adj2" fmla="val 121523"/>
              <a:gd name="adj3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colours can you see on your rock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1484280"/>
            <a:ext cx="5545080" cy="201600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9900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084640"/>
            <a:ext cx="5330880" cy="648000"/>
          </a:xfrm>
          <a:prstGeom prst="wedgeRoundRectCallout">
            <a:avLst>
              <a:gd name="adj1" fmla="val 75342"/>
              <a:gd name="adj2" fmla="val -24263"/>
              <a:gd name="adj3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your rock, shiny or dul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6021360"/>
            <a:ext cx="5400720" cy="647640"/>
          </a:xfrm>
          <a:prstGeom prst="wedgeRoundRectCallout">
            <a:avLst>
              <a:gd name="adj1" fmla="val 54087"/>
              <a:gd name="adj2" fmla="val -147305"/>
              <a:gd name="adj3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colour are the parti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509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333360"/>
            <a:ext cx="8280360" cy="9349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1341360"/>
            <a:ext cx="5543640" cy="2305080"/>
          </a:xfrm>
          <a:prstGeom prst="irregularSeal2">
            <a:avLst/>
          </a:prstGeom>
          <a:gradFill rotWithShape="0">
            <a:gsLst>
              <a:gs pos="0">
                <a:srgbClr val="9933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4005360"/>
            <a:ext cx="5688000" cy="1511280"/>
          </a:xfrm>
          <a:prstGeom prst="wedgeRoundRectCallout">
            <a:avLst>
              <a:gd name="adj1" fmla="val 61916"/>
              <a:gd name="adj2" fmla="val 33402"/>
              <a:gd name="adj3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your rock feel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it rough or smooth? What else do you notice about the tex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2509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32720" y="3357720"/>
            <a:ext cx="1822320" cy="320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4437000"/>
            <a:ext cx="5905440" cy="1297080"/>
          </a:xfrm>
          <a:prstGeom prst="wedgeRoundRectCallout">
            <a:avLst>
              <a:gd name="adj1" fmla="val 61907"/>
              <a:gd name="adj2" fmla="val 12791"/>
              <a:gd name="adj3" fmla="val 16667"/>
            </a:avLst>
          </a:prstGeom>
          <a:gradFill rotWithShape="0">
            <a:gsLst>
              <a:gs pos="0">
                <a:srgbClr val="66006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re they angular or poin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re they smooth and 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60280"/>
            <a:ext cx="8280360" cy="935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484280"/>
            <a:ext cx="6769080" cy="2664000"/>
          </a:xfrm>
          <a:prstGeom prst="irregularSeal2">
            <a:avLst/>
          </a:prstGeom>
          <a:gradFill rotWithShape="0">
            <a:gsLst>
              <a:gs pos="0">
                <a:srgbClr val="00ff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shape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arti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11280" y="260280"/>
            <a:ext cx="8280360" cy="9352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e able to  recognize and describe a range of different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397160"/>
          <a:ext cx="8136000" cy="53020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357200"/>
                <a:gridCol w="1355760"/>
                <a:gridCol w="1355760"/>
                <a:gridCol w="135576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of r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of the p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 of the p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else I notice or know about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1:19:03Z</dcterms:created>
  <dc:creator>Manager</dc:creator>
  <dc:description/>
  <dc:language>en-US</dc:language>
  <cp:lastModifiedBy>Manager</cp:lastModifiedBy>
  <dcterms:modified xsi:type="dcterms:W3CDTF">2004-12-03T10:52:23Z</dcterms:modified>
  <cp:revision>20</cp:revision>
  <dc:subject/>
  <dc:title>Slide 1</dc:title>
</cp:coreProperties>
</file>