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D5C-DF9E-43C7-8010-FDF0A734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8FB-2A75-41F8-BB7B-8F496240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010-8F1A-4FB1-9B56-00E33FCA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995-D92C-4CA0-9054-DE5B059D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E7EF-EE88-415C-A2FB-58365292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FE73-47AE-4C00-9434-31B022C4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A654-7CDA-446D-AD08-89DE58CA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240A-1C17-40A5-86E2-F0011D8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89CF-0CCF-4FCA-979D-20A05605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0BB2-2B77-4F48-8376-E4B5F42E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7284-A1A0-40CF-B5E7-83BBB649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574-CAA2-44D7-A4BC-5367C474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7C5C-49A7-43FD-9B44-86D5844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0F37-58D3-4D39-82A7-42A4AD2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E6E-5F43-41F3-91B8-43567379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03A5-711C-4836-A779-1F7EF6C0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BB8D-2581-4C87-ABA7-0D9A7992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5EE-5BE9-4A5F-B4C9-65F4D33D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488-F046-414A-8C67-EA1A112F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B15-C768-4AE2-BFFB-B167F749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793-3588-4F03-B2AF-E33B0E12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697-84F4-4E89-8562-0AB182E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9EA-5B03-46EC-995E-2549C42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E4E-1730-4A48-AB36-F4836E85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FB21-58B6-40A6-91F2-FB6171AC0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7653-465F-4F6A-8D41-FBEDCC361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93672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lancing Equatio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99"/>
                </a:solidFill>
                <a:latin typeface="Arial"/>
              </a:rPr>
              <a:t>Chemical</a:t>
            </a:r>
            <a:r>
              <a:rPr b="1" lang="en-US" sz="6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99ff99"/>
                </a:solidFill>
                <a:latin typeface="Arial"/>
              </a:rPr>
              <a:t>Reactions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hemical reactions can be represented by an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row means that a reaction has taken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tarting materials 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reactan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written to the left of the a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new substances or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ust be written to the right of the a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213372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99"/>
                </a:solidFill>
                <a:latin typeface="Comic Sans MS"/>
              </a:rPr>
              <a:t>Reactants      Produ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2708280"/>
            <a:ext cx="11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404640"/>
            <a:ext cx="864216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ust start with the </a:t>
            </a:r>
            <a:r>
              <a:rPr b="0" lang="en-US" sz="3200" spc="-1" strike="noStrike">
                <a:solidFill>
                  <a:srgbClr val="99ff99"/>
                </a:solidFill>
                <a:latin typeface="Comic Sans MS"/>
              </a:rPr>
              <a:t>correct formu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nt the atoms of each element before   the reaction and after the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you have the same number of atoms of each element before and after the reaction then your equation is </a:t>
            </a:r>
            <a:r>
              <a:rPr b="0" lang="en-US" sz="3200" spc="-1" strike="noStrike">
                <a:solidFill>
                  <a:srgbClr val="99ff99"/>
                </a:solidFill>
                <a:latin typeface="Comic Sans MS"/>
              </a:rPr>
              <a:t>bal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476280"/>
            <a:ext cx="828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Comic Sans MS"/>
              </a:rPr>
              <a:t>NaOH + HCl              NaCl + H</a:t>
            </a:r>
            <a:r>
              <a:rPr b="0" lang="en-GB" sz="4000" spc="-1" strike="noStrike" baseline="-25000">
                <a:solidFill>
                  <a:srgbClr val="99ff99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ff99"/>
                </a:solidFill>
                <a:latin typeface="Comic Sans MS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83664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2082960"/>
            <a:ext cx="3889440" cy="22536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fore the re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atom of so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atom of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atoms of hydro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atom of chl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2360" y="2082960"/>
            <a:ext cx="4032360" cy="22536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ter the re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atom of so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atom of oxyg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atoms of hydro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atom of chl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5084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Comic Sans MS"/>
              </a:rPr>
              <a:t>This equation is </a:t>
            </a: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BALANC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4360" y="620640"/>
            <a:ext cx="80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Comic Sans MS"/>
              </a:rPr>
              <a:t>Mg  +    HCl            MgCl</a:t>
            </a:r>
            <a:r>
              <a:rPr b="0" lang="en-GB" sz="4000" spc="-1" strike="noStrike" baseline="-25000">
                <a:solidFill>
                  <a:srgbClr val="99ff99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ff99"/>
                </a:solidFill>
                <a:latin typeface="Comic Sans MS"/>
              </a:rPr>
              <a:t>    +   H</a:t>
            </a:r>
            <a:r>
              <a:rPr b="0" lang="en-GB" sz="4000" spc="-1" strike="noStrike" baseline="-25000">
                <a:solidFill>
                  <a:srgbClr val="99ff99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981000"/>
            <a:ext cx="165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2133720"/>
            <a:ext cx="3656160" cy="2128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99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atom of magne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atom of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atom of chlo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19640" y="2133720"/>
            <a:ext cx="3529080" cy="2128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99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ter the re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Atom of magne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atoms of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atoms of chlo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530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Comic Sans MS"/>
              </a:rPr>
              <a:t>This equation is </a:t>
            </a: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unbalanc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5280" y="476280"/>
            <a:ext cx="84247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balancing an equation you must not change 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can only add the whole formula again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242100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99"/>
                </a:solidFill>
                <a:latin typeface="Comic Sans MS"/>
              </a:rPr>
              <a:t>Mg  +   HCl               MgCl</a:t>
            </a:r>
            <a:r>
              <a:rPr b="0" lang="en-GB" sz="2800" spc="-1" strike="noStrike" baseline="-25000">
                <a:solidFill>
                  <a:srgbClr val="99ff99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ff99"/>
                </a:solidFill>
                <a:latin typeface="Comic Sans MS"/>
              </a:rPr>
              <a:t>    +   H</a:t>
            </a:r>
            <a:r>
              <a:rPr b="0" lang="en-GB" sz="2800" spc="-1" strike="noStrike" baseline="-25000">
                <a:solidFill>
                  <a:srgbClr val="99ff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263700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306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99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933720"/>
            <a:ext cx="349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fore the re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atom of magne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atoms of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atoms of chlo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3933720"/>
            <a:ext cx="374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ter the re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Atom of magne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atoms of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atoms of chlo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4360" y="404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Comic Sans MS"/>
              </a:rPr>
              <a:t>The equation is now </a:t>
            </a: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balanc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2133720"/>
            <a:ext cx="777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Comic Sans MS"/>
              </a:rPr>
              <a:t>Mg + 2HCl         MgCl</a:t>
            </a:r>
            <a:r>
              <a:rPr b="0" lang="en-US" sz="4800" spc="-1" strike="noStrike" baseline="-25000">
                <a:solidFill>
                  <a:srgbClr val="99ff99"/>
                </a:solidFill>
                <a:latin typeface="Comic Sans MS"/>
              </a:rPr>
              <a:t>2 </a:t>
            </a:r>
            <a:r>
              <a:rPr b="0" lang="en-US" sz="4800" spc="-1" strike="noStrike">
                <a:solidFill>
                  <a:srgbClr val="99ff99"/>
                </a:solidFill>
                <a:latin typeface="Comic Sans MS"/>
              </a:rPr>
              <a:t>+ H</a:t>
            </a:r>
            <a:r>
              <a:rPr b="0" lang="en-US" sz="4800" spc="-1" strike="noStrike" baseline="-25000">
                <a:solidFill>
                  <a:srgbClr val="99ff99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2492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4000" y="54936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ow you try thes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844640"/>
            <a:ext cx="84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1.  Ca  +   O</a:t>
            </a:r>
            <a:r>
              <a:rPr b="0" lang="en-GB" sz="4000" spc="-1" strike="noStrike" baseline="-25000">
                <a:solidFill>
                  <a:srgbClr val="ffff00"/>
                </a:solidFill>
                <a:latin typeface="Comic Sans MS"/>
              </a:rPr>
              <a:t>2               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Ca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2205000"/>
            <a:ext cx="16560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997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2.  Na  +  Cl</a:t>
            </a:r>
            <a:r>
              <a:rPr b="0" lang="en-GB" sz="4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           Na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64000" y="3284640"/>
            <a:ext cx="143964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4292640"/>
            <a:ext cx="669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3. 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+   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      H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51280" y="4653000"/>
            <a:ext cx="129708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0:20:58Z</dcterms:created>
  <dc:creator>victoria kokumo</dc:creator>
  <dc:description/>
  <dc:language>en-US</dc:language>
  <cp:lastModifiedBy>Brett Laniosh</cp:lastModifiedBy>
  <dcterms:modified xsi:type="dcterms:W3CDTF">2005-04-18T09:29:54Z</dcterms:modified>
  <cp:revision>6</cp:revision>
  <dc:subject/>
  <dc:title>Balancing Equations</dc:title>
</cp:coreProperties>
</file>