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E8D-94D0-4362-8DFF-B96F12F4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663-09B9-4F95-B593-BB3B71A6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06C5-7D0E-497F-BB69-2F95057B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8F9-A0E1-4959-BF4A-6842A0BA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3AA3-CA7B-40DE-992E-AA97D6DA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5BFE-3E83-41C8-BACD-F59DB162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8F6B-E643-4883-98BF-25545059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2E04-88AB-4BFF-ACC8-EC7F74B8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D429-0CD3-41B1-AF89-3C197472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CB53-68D3-49C7-9F44-0738A130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4455-FF8C-420A-9C13-0FBEC188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873-F021-4B5D-822B-E44F685B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90B2-676A-498A-BD52-7F53C6BF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BA13-38D6-46DD-8ACF-A7785A0E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A77A-0539-4E9D-8445-FB89EFF7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F0DA-1427-49E8-A8C3-8F2A137E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66CE-4276-4414-AC4D-15343B09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6FE-C398-4271-AC36-AC9A4665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FD2-ECAB-4CD1-BCB5-995AEF05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487-CF7C-4878-BAF1-E98020C4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F9E-25CC-43CA-94BD-AC96B3BF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7FF-A8A7-4A20-BA29-C7DD47D0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E4E-E424-4366-B983-06042E76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2AB-49B6-4966-9652-5F9E3CB2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12E4-A1D6-47CE-B77C-45F19A9B0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78AD-8A60-4440-85CC-ED3EA85CC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y%20Pictures/cocivoi1%5B1%5D.jpg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Industrial Uses of Enzym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2920" y="3573000"/>
            <a:ext cx="6689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shing pow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od manuf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rink manuf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549360"/>
            <a:ext cx="806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87280" y="404640"/>
            <a:ext cx="82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What are enzyme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844640"/>
            <a:ext cx="88930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zymes are _______ found in living cells which act as biological _______ . Enzymes have a specific 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ich means they can only work on ____reaction each. Enzymes work best at a particular temperature called the _______ temperature. Above this temperature the enzymes are ________(or denatured). This is because their ________ is changed. Enzymes also work best at an optimum ______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62118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5373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59640" y="6165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5373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pt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72360" y="537372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6237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ataly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5373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62118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19325E-006 L -0.46841 -0.63106 E">
                                      <p:cBhvr>
                                        <p:cTn id="3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58761E-006 L -0.04705 -0.589 E">
                                      <p:cBhvr>
                                        <p:cTn id="4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4.85899E-006 L 0.53142 -0.46325 E">
                                      <p:cBhvr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5899E-006 L 0.50416 -0.38997 E">
                                      <p:cBhvr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85899E-006 L -0.43316 -0.27462 E">
                                      <p:cBhvr>
                                        <p:cTn id="5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85899E-006 L -0.44879 -0.22215 E">
                                      <p:cBhvr>
                                        <p:cTn id="5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78 -0.0104 L -0.36216 -0.29173 E">
                                      <p:cBhvr>
                                        <p:cTn id="6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15442E-006 L 0.14584 -0.24989 E">
                                      <p:cBhvr>
                                        <p:cTn id="6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Fermen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Yeast (a micro-organism) contains enzymes which  change sugar into ethanol (alcoho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2979720" cy="2911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21337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 second product of the reaction is carbon diox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40360" y="2997360"/>
            <a:ext cx="43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Uses of fermentation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3933720"/>
            <a:ext cx="47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Brew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184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67280" y="4581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aking w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7280" y="5229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Bread 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1280" y="476280"/>
            <a:ext cx="784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05264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ermentation is a chemical rea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92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Glucose (sugar)           Ethanol(alcohol) + carbon di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340000" y="2852640"/>
            <a:ext cx="1441440" cy="398880"/>
            <a:chOff x="2340000" y="2852640"/>
            <a:chExt cx="1441440" cy="398880"/>
          </a:xfrm>
        </p:grpSpPr>
        <p:sp>
          <p:nvSpPr>
            <p:cNvPr id="108" name=""/>
            <p:cNvSpPr/>
            <p:nvPr/>
          </p:nvSpPr>
          <p:spPr>
            <a:xfrm>
              <a:off x="2340000" y="3213000"/>
              <a:ext cx="129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84360" y="28526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yea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826920" y="4653000"/>
            <a:ext cx="734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6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1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6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2C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H       +    2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486900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Comic Sans MS"/>
              </a:rPr>
              <a:t>Cheese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145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ilk is heated to 70 C for 30 minutes to kill harmful bacteria. This is called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pasteuris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fter cooling to 30 C useful bacteria are ad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se bacteria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produce an enzyme which changes lactose into lactic aci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is makes the milk turn so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nnet is added which contains the enzyme rennin. This makes the milk curd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lumps are called curds and these are the basis for chee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ther bacteria or fungi are added to ripen the cheese. This gives each type of cheese its characteristic smell and flavo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Washing Powd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14280" y="1557360"/>
            <a:ext cx="3224160" cy="4032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24360" y="2349360"/>
            <a:ext cx="468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Enzymes in the washing powders are used to digest some stains. Proteases would remove protein stains such as blood. Lipases would remove fat stains and cellulases remove loose bob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0:40:17Z</dcterms:created>
  <dc:creator>victoria kokumo</dc:creator>
  <dc:description/>
  <dc:language>en-US</dc:language>
  <cp:lastModifiedBy>victoria kokumo</cp:lastModifiedBy>
  <dcterms:modified xsi:type="dcterms:W3CDTF">2004-12-14T15:30:06Z</dcterms:modified>
  <cp:revision>5</cp:revision>
  <dc:subject/>
  <dc:title>Industrial Uses of Enzymes</dc:title>
</cp:coreProperties>
</file>