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7EB-0B12-45C9-B4EA-2616FF50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362-4D03-4F71-9010-2868C2A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3F6-DCF9-4AF8-92CA-DB109F13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521-3FE1-4F8C-B50C-F605ABA2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8FBF-2AD9-4FD6-B508-56440511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4B13-B583-46D4-AB3A-4F7C508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CF8A-57A3-4397-B900-7A2C450D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25B4-6036-4499-8BA3-F9B30014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107A-3951-407D-9196-63FA3AE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BBCA-AEA1-4E6B-82BE-3F56822E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51E-0BA2-4FB2-9DD8-8407CD73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D75-7FE4-48C1-AA7A-FFDF715F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59C-8CBE-4DAE-8CDB-ED00517B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9FB6-F75E-41ED-8DB9-7EE2497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450F-5F64-464D-8600-EA5668CF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CE7D-7D11-4C8E-BC83-E0520CA3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B5A1-9469-4C3C-B4D7-31E9B41E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498-82CC-4931-876C-0B402A98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6F7-81AF-4E1E-9A8E-CDDAFC5F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FD8-7E74-4025-B99F-1D3713BC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CAF-1DE8-41E6-9DCF-10AAB167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9D7-D445-456D-86F3-ADED2B8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A7C-77F6-4B8E-B5BB-83C4C42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035-4527-44B8-9882-3E8D7AE6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CEC2-0C9A-4703-A8EF-A77EF1977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112-D536-4C15-AC3F-6EC1A91C1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soft/cca/cca0/Movies/NACL1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Comic Sans MS"/>
              </a:rPr>
              <a:t>The Halogen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Comic Sans MS"/>
              </a:rPr>
              <a:t>A group of non metal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e at room temperatu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Chlorine is a yellow – green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Bromine is a red - brown liquid which easily evaporates to give an orange – brown vap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Iodine is a grey – black solid which sublimes to give a violet vapour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2879640" cy="25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867280" y="400536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1052640"/>
            <a:ext cx="7201080" cy="46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rends in melting and boiling point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57340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Colonna MT"/>
              </a:rPr>
              <a:t>As the atomic number increases the melting and boiling points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1700280"/>
            <a:ext cx="1035000" cy="7081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408400"/>
            <a:ext cx="1035000" cy="7063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114720"/>
            <a:ext cx="1035000" cy="7081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3860640"/>
            <a:ext cx="1035000" cy="7066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529160"/>
            <a:ext cx="1035000" cy="7081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801360" y="3028680"/>
            <a:ext cx="3517920" cy="927360"/>
          </a:xfrm>
          <a:prstGeom prst="rightArrow">
            <a:avLst>
              <a:gd name="adj1" fmla="val 50000"/>
              <a:gd name="adj2" fmla="val 94837"/>
            </a:avLst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ing Re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60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Reactivity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628640"/>
            <a:ext cx="2565360" cy="3589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5640" y="2421000"/>
            <a:ext cx="1035000" cy="7063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3141720"/>
            <a:ext cx="1035000" cy="708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628640"/>
            <a:ext cx="2952720" cy="360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55640" y="3860640"/>
            <a:ext cx="1035000" cy="706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30064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ery vigorous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5300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ss vigorous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3273480" y="5299200"/>
            <a:ext cx="47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ast vigorou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9500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dium  +     chlorine            sodium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616572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6400800"/>
            <a:ext cx="813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N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(s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+     Cl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 (g)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NaCl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659772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eec94"/>
                </a:solidFill>
                <a:uFillTx/>
                <a:latin typeface="Comic Sans MS"/>
              </a:rPr>
              <a:t>Reaction of chlorine with ir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248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on wool heated strongly will react with chlorine. The iron wool glows brightly during the reaction. The product is red – brown iron (iii) chlor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3429000" cy="1266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42920" y="5589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ron   +  chlorine               iron (iii)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580536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63388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 (s)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+    3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2 (g)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Fe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3 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6453360"/>
            <a:ext cx="165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5280" y="476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Displacement reactions of 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276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ore reactive halogen will displace a less reactive halogen from a solution of its ha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63640" y="3789360"/>
          <a:ext cx="5496120" cy="3009960"/>
        </p:xfrm>
        <a:graphic>
          <a:graphicData uri="http://schemas.openxmlformats.org/drawingml/2006/table">
            <a:tbl>
              <a:tblPr/>
              <a:tblGrid>
                <a:gridCol w="1373400"/>
                <a:gridCol w="1374480"/>
                <a:gridCol w="1374840"/>
                <a:gridCol w="137340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tassium chlor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C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tassium brom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tassium iod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a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a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om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 rea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a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od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14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 rea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 rea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7546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flipV="1" rot="10800000">
            <a:off x="899640" y="764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lorine will displace both bromine and io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557360"/>
            <a:ext cx="734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g: Cl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Comic Sans MS"/>
              </a:rPr>
              <a:t>2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+   2KBr            Br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Comic Sans MS"/>
              </a:rPr>
              <a:t>2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+   2KCl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177336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565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romine can only displace iod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3429000"/>
            <a:ext cx="684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+    2KI             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+   2K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3645000"/>
            <a:ext cx="144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458136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odine cannot displace either chlorine or brom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Uses of Haloge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lorine is used to purify water in swimming pools etc as it kills bacte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lorine is also used as blea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odine is used as an antiseptic on cuts and graz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2664000" cy="2119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708360" y="3645000"/>
            <a:ext cx="2519280" cy="2128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3645000"/>
            <a:ext cx="2160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4:39:56Z</dcterms:created>
  <dc:creator>victoria kokumo</dc:creator>
  <dc:description/>
  <dc:language>en-US</dc:language>
  <cp:lastModifiedBy>victoria kokumo</cp:lastModifiedBy>
  <dcterms:modified xsi:type="dcterms:W3CDTF">2004-12-14T15:02:07Z</dcterms:modified>
  <cp:revision>6</cp:revision>
  <dc:subject/>
  <dc:title>The Halogens</dc:title>
</cp:coreProperties>
</file>