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FE6-07FD-42A2-847F-1F769883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A4E5-2CC4-4A1F-B684-CB61FB44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E151-6726-4E44-97F9-6A996C53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FE52-A4E4-4DE2-855F-88AB5308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7F20-3528-4D4A-8738-A8B494A6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5366-C6B4-4EA2-B4F2-A2E9BD1C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0E1A-4ACC-4ADE-83DD-3BE2C43B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A6B-EE40-4FB1-838E-470799A4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089-05AC-491A-BDE0-E08C7AB2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742-443F-4898-A732-7B7A5D79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F407-4010-40FB-963C-A55B7025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1F3-8742-4FB7-9B3F-6DB0E2E8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470B-B4CB-48E1-991A-9C3C5A22C4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chalk.co.uk/Science/chemistry/atomicStructure/atomicStructure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f0e500"/>
              </a:gs>
              <a:gs pos="100000">
                <a:srgbClr val="ff66cc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to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68360" y="345960"/>
            <a:ext cx="4762800" cy="9223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Question T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833480" y="4149720"/>
            <a:ext cx="5587920" cy="1046160"/>
            <a:chOff x="1833480" y="4149720"/>
            <a:chExt cx="5587920" cy="1046160"/>
          </a:xfrm>
        </p:grpSpPr>
        <p:sp>
          <p:nvSpPr>
            <p:cNvPr id="195" name=""/>
            <p:cNvSpPr/>
            <p:nvPr/>
          </p:nvSpPr>
          <p:spPr>
            <a:xfrm>
              <a:off x="1833480" y="4149720"/>
              <a:ext cx="770040" cy="1001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14640" y="4157640"/>
              <a:ext cx="769680" cy="1001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11640" y="4149720"/>
              <a:ext cx="769680" cy="1001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1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10080" y="4186440"/>
              <a:ext cx="770040" cy="1001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51360" y="4194360"/>
              <a:ext cx="770040" cy="1001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812960" y="5684760"/>
            <a:ext cx="771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36960" y="5680080"/>
            <a:ext cx="771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99040" y="5684760"/>
            <a:ext cx="771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81640" y="5668920"/>
            <a:ext cx="771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80160" y="5684760"/>
            <a:ext cx="771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32000" y="2160720"/>
            <a:ext cx="6427800" cy="1068840"/>
          </a:xfrm>
          <a:prstGeom prst="rect">
            <a:avLst/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protons do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elements conta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68360" y="345960"/>
            <a:ext cx="4762800" cy="9223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Question Tim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207" name="ShockwaveFlash1"/>
          <p:cNvGraphicFramePr/>
          <p:nvPr/>
        </p:nvGraphicFramePr>
        <p:xfrm>
          <a:off x="1187280" y="1484280"/>
          <a:ext cx="684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84280"/>
                    <a:ext cx="6840720" cy="5040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68360" y="345960"/>
            <a:ext cx="4762800" cy="9223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Question T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>
            <a:hlinkClick r:id="rId1"/>
          </p:cNvPr>
          <p:cNvSpPr/>
          <p:nvPr/>
        </p:nvSpPr>
        <p:spPr>
          <a:xfrm>
            <a:off x="1403280" y="1557360"/>
            <a:ext cx="6696000" cy="4321080"/>
          </a:xfrm>
          <a:prstGeom prst="irregularSeal2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your own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57240">
            <a:solidFill>
              <a:srgbClr val="cc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are the thought of as the smallest part of an 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formed from three different sub-atomic part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all protons, neutrons and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ub-atomic partic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18440" cy="305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l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7575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g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7575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75752f"/>
                        </a:gs>
                      </a:gsLst>
                      <a:lin ang="5400000"/>
                    </a:gradFill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7575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7575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75752f"/>
                        </a:gs>
                      </a:gsLst>
                      <a:lin ang="5400000"/>
                    </a:gradFill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7575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7575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75752f"/>
                        </a:gs>
                      </a:gsLst>
                      <a:lin ang="5400000"/>
                    </a:gradFill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o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7575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7575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00"/>
                      </a:solidFill>
                    </a:lnL>
                    <a:lnR w="28080">
                      <a:solidFill>
                        <a:srgbClr val="ff0000"/>
                      </a:solidFill>
                    </a:lnR>
                    <a:lnT w="28080">
                      <a:solidFill>
                        <a:srgbClr val="ff0000"/>
                      </a:solidFill>
                    </a:lnT>
                    <a:lnB w="2808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ff66"/>
                        </a:gs>
                        <a:gs pos="100000">
                          <a:srgbClr val="75752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2843280" y="5084640"/>
            <a:ext cx="3476520" cy="10688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00cc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the following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3080" y="244332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70320" y="3213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57440" y="4011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86600" y="2421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11720" y="3962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62600" y="3200400"/>
            <a:ext cx="1046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8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2124000" y="1773360"/>
            <a:ext cx="4968720" cy="4608000"/>
            <a:chOff x="2124000" y="1773360"/>
            <a:chExt cx="4968720" cy="4608000"/>
          </a:xfrm>
        </p:grpSpPr>
        <p:sp>
          <p:nvSpPr>
            <p:cNvPr id="55" name=""/>
            <p:cNvSpPr/>
            <p:nvPr/>
          </p:nvSpPr>
          <p:spPr>
            <a:xfrm>
              <a:off x="2124000" y="1773360"/>
              <a:ext cx="4968720" cy="4608000"/>
            </a:xfrm>
            <a:prstGeom prst="ellips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44920" y="3860280"/>
              <a:ext cx="180000" cy="173880"/>
            </a:xfrm>
            <a:prstGeom prst="ellipse">
              <a:avLst/>
            </a:prstGeom>
            <a:gradFill rotWithShape="0">
              <a:gsLst>
                <a:gs pos="0">
                  <a:srgbClr val="feb8b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89240" y="2699280"/>
              <a:ext cx="2874240" cy="2738520"/>
            </a:xfrm>
            <a:prstGeom prst="ellipse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44920" y="4034160"/>
              <a:ext cx="180000" cy="173880"/>
            </a:xfrm>
            <a:prstGeom prst="ellipse">
              <a:avLst/>
            </a:prstGeom>
            <a:gradFill rotWithShape="0">
              <a:gsLst>
                <a:gs pos="0">
                  <a:srgbClr val="feb8b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25280" y="4034160"/>
              <a:ext cx="180720" cy="173880"/>
            </a:xfrm>
            <a:prstGeom prst="ellipse">
              <a:avLst/>
            </a:prstGeom>
            <a:gradFill rotWithShape="0">
              <a:gsLst>
                <a:gs pos="0">
                  <a:srgbClr val="feb8b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18200" y="4034160"/>
              <a:ext cx="180000" cy="173880"/>
            </a:xfrm>
            <a:prstGeom prst="ellipse">
              <a:avLst/>
            </a:prstGeom>
            <a:gradFill rotWithShape="0">
              <a:gsLst>
                <a:gs pos="0">
                  <a:srgbClr val="feb8b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93600" y="4269600"/>
              <a:ext cx="180000" cy="171000"/>
            </a:xfrm>
            <a:prstGeom prst="ellipse">
              <a:avLst/>
            </a:prstGeom>
            <a:gradFill rotWithShape="0">
              <a:gsLst>
                <a:gs pos="0">
                  <a:srgbClr val="feb8b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00800" y="4115160"/>
              <a:ext cx="180720" cy="173880"/>
            </a:xfrm>
            <a:prstGeom prst="ellipse">
              <a:avLst/>
            </a:prstGeom>
            <a:gradFill rotWithShape="0">
              <a:gsLst>
                <a:gs pos="0">
                  <a:srgbClr val="feb8b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81440" y="4183560"/>
              <a:ext cx="180000" cy="173880"/>
            </a:xfrm>
            <a:prstGeom prst="ellipse">
              <a:avLst/>
            </a:prstGeom>
            <a:gradFill rotWithShape="0">
              <a:gsLst>
                <a:gs pos="0">
                  <a:srgbClr val="feb8b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15480" y="3924360"/>
              <a:ext cx="180000" cy="173880"/>
            </a:xfrm>
            <a:prstGeom prst="ellipse">
              <a:avLst/>
            </a:prstGeom>
            <a:gradFill rotWithShape="0">
              <a:gsLst>
                <a:gs pos="0">
                  <a:srgbClr val="feb8b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59920" y="3392640"/>
              <a:ext cx="180000" cy="173880"/>
            </a:xfrm>
            <a:prstGeom prst="ellipse">
              <a:avLst/>
            </a:prstGeom>
            <a:gradFill rotWithShape="0">
              <a:gsLst>
                <a:gs pos="0">
                  <a:srgbClr val="cbdecc"/>
                </a:gs>
                <a:gs pos="100000">
                  <a:srgbClr val="468a4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2320" y="4443480"/>
              <a:ext cx="180000" cy="173880"/>
            </a:xfrm>
            <a:prstGeom prst="ellipse">
              <a:avLst/>
            </a:prstGeom>
            <a:gradFill rotWithShape="0">
              <a:gsLst>
                <a:gs pos="0">
                  <a:srgbClr val="cbdecc"/>
                </a:gs>
                <a:gs pos="100000">
                  <a:srgbClr val="468a4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11240" y="3213720"/>
              <a:ext cx="1769760" cy="1721880"/>
            </a:xfrm>
            <a:prstGeom prst="ellipse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57880" y="2199240"/>
              <a:ext cx="3873960" cy="3745800"/>
            </a:xfrm>
            <a:prstGeom prst="ellipse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84120" y="2682000"/>
              <a:ext cx="180720" cy="173880"/>
            </a:xfrm>
            <a:prstGeom prst="ellipse">
              <a:avLst/>
            </a:prstGeom>
            <a:gradFill rotWithShape="0">
              <a:gsLst>
                <a:gs pos="0">
                  <a:srgbClr val="cbdecc"/>
                </a:gs>
                <a:gs pos="100000">
                  <a:srgbClr val="468a4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4360" y="4159080"/>
              <a:ext cx="180720" cy="171360"/>
            </a:xfrm>
            <a:prstGeom prst="ellipse">
              <a:avLst/>
            </a:prstGeom>
            <a:gradFill rotWithShape="0">
              <a:gsLst>
                <a:gs pos="0">
                  <a:srgbClr val="feb8b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69200" y="3972960"/>
              <a:ext cx="180000" cy="173880"/>
            </a:xfrm>
            <a:prstGeom prst="ellipse">
              <a:avLst/>
            </a:prstGeom>
            <a:gradFill rotWithShape="0">
              <a:gsLst>
                <a:gs pos="0">
                  <a:srgbClr val="feb8b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83600" y="3875400"/>
              <a:ext cx="180720" cy="173880"/>
            </a:xfrm>
            <a:prstGeom prst="ellipse">
              <a:avLst/>
            </a:prstGeom>
            <a:gradFill rotWithShape="0">
              <a:gsLst>
                <a:gs pos="0">
                  <a:srgbClr val="feb8b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59560" y="3921480"/>
              <a:ext cx="180000" cy="173880"/>
            </a:xfrm>
            <a:prstGeom prst="ellipse">
              <a:avLst/>
            </a:prstGeom>
            <a:gradFill rotWithShape="0">
              <a:gsLst>
                <a:gs pos="0">
                  <a:srgbClr val="feb8b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59400" y="3811320"/>
              <a:ext cx="180720" cy="173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2840" y="4039200"/>
              <a:ext cx="180000" cy="173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69120" y="4203000"/>
              <a:ext cx="180000" cy="174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76320" y="3956040"/>
              <a:ext cx="180720" cy="173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18160" y="4139640"/>
              <a:ext cx="180000" cy="173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6320" y="4134600"/>
              <a:ext cx="180720" cy="173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9880" y="4091040"/>
              <a:ext cx="180000" cy="173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04280" y="3726000"/>
              <a:ext cx="180000" cy="171000"/>
            </a:xfrm>
            <a:prstGeom prst="ellipse">
              <a:avLst/>
            </a:prstGeom>
            <a:gradFill rotWithShape="0">
              <a:gsLst>
                <a:gs pos="0">
                  <a:srgbClr val="cbdecc"/>
                </a:gs>
                <a:gs pos="100000">
                  <a:srgbClr val="468a4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13560" y="2763000"/>
              <a:ext cx="180000" cy="173880"/>
            </a:xfrm>
            <a:prstGeom prst="ellipse">
              <a:avLst/>
            </a:prstGeom>
            <a:gradFill rotWithShape="0">
              <a:gsLst>
                <a:gs pos="0">
                  <a:srgbClr val="cbdecc"/>
                </a:gs>
                <a:gs pos="100000">
                  <a:srgbClr val="468a4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59720" y="2671920"/>
              <a:ext cx="180000" cy="181440"/>
            </a:xfrm>
            <a:prstGeom prst="ellipse">
              <a:avLst/>
            </a:prstGeom>
            <a:gradFill rotWithShape="0">
              <a:gsLst>
                <a:gs pos="0">
                  <a:srgbClr val="cbdecc"/>
                </a:gs>
                <a:gs pos="100000">
                  <a:srgbClr val="468a4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95640" y="3301920"/>
              <a:ext cx="180000" cy="173880"/>
            </a:xfrm>
            <a:prstGeom prst="ellipse">
              <a:avLst/>
            </a:prstGeom>
            <a:gradFill rotWithShape="0">
              <a:gsLst>
                <a:gs pos="0">
                  <a:srgbClr val="cbdecc"/>
                </a:gs>
                <a:gs pos="100000">
                  <a:srgbClr val="468a4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22360" y="4166280"/>
              <a:ext cx="180720" cy="173880"/>
            </a:xfrm>
            <a:prstGeom prst="ellipse">
              <a:avLst/>
            </a:prstGeom>
            <a:gradFill rotWithShape="0">
              <a:gsLst>
                <a:gs pos="0">
                  <a:srgbClr val="cbdecc"/>
                </a:gs>
                <a:gs pos="100000">
                  <a:srgbClr val="468a4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98480" y="5146560"/>
              <a:ext cx="180000" cy="173880"/>
            </a:xfrm>
            <a:prstGeom prst="ellipse">
              <a:avLst/>
            </a:prstGeom>
            <a:gradFill rotWithShape="0">
              <a:gsLst>
                <a:gs pos="0">
                  <a:srgbClr val="cbdecc"/>
                </a:gs>
                <a:gs pos="100000">
                  <a:srgbClr val="468a4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73920" y="5340240"/>
              <a:ext cx="180720" cy="173880"/>
            </a:xfrm>
            <a:prstGeom prst="ellipse">
              <a:avLst/>
            </a:prstGeom>
            <a:gradFill rotWithShape="0">
              <a:gsLst>
                <a:gs pos="0">
                  <a:srgbClr val="cbdecc"/>
                </a:gs>
                <a:gs pos="100000">
                  <a:srgbClr val="468a4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45760" y="4607640"/>
              <a:ext cx="180000" cy="173880"/>
            </a:xfrm>
            <a:prstGeom prst="ellipse">
              <a:avLst/>
            </a:prstGeom>
            <a:gradFill rotWithShape="0">
              <a:gsLst>
                <a:gs pos="0">
                  <a:srgbClr val="cbdecc"/>
                </a:gs>
                <a:gs pos="100000">
                  <a:srgbClr val="468a4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 flipH="1" flipV="1">
            <a:off x="5866920" y="3428640"/>
            <a:ext cx="1081080" cy="1079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to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5445000"/>
            <a:ext cx="2303640" cy="1068840"/>
          </a:xfrm>
          <a:prstGeom prst="rect">
            <a:avLst/>
          </a:prstGeom>
          <a:solidFill>
            <a:srgbClr val="ff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132000" y="4437000"/>
            <a:ext cx="1224000" cy="1440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130720"/>
            <a:ext cx="2881080" cy="1556280"/>
          </a:xfrm>
          <a:prstGeom prst="rect">
            <a:avLst/>
          </a:prstGeom>
          <a:solidFill>
            <a:srgbClr val="ff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ontains all the protons and 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11640" y="3645000"/>
            <a:ext cx="865080" cy="863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 rot="10800000">
            <a:off x="6800760" y="3997080"/>
            <a:ext cx="2308320" cy="10688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e elec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4869000"/>
            <a:ext cx="3024360" cy="155628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always present in sh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03640" y="2421000"/>
            <a:ext cx="2519280" cy="23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65680" y="2660760"/>
            <a:ext cx="1280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3933720"/>
            <a:ext cx="45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249228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572000" y="2565360"/>
            <a:ext cx="194472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tomic Numb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5013360"/>
            <a:ext cx="361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elements on the periodic table are shown like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43640" y="1844640"/>
            <a:ext cx="2108160" cy="1556280"/>
          </a:xfrm>
          <a:prstGeom prst="rect">
            <a:avLst/>
          </a:prstGeom>
          <a:solidFill>
            <a:srgbClr val="0033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elements sym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14360" y="1557360"/>
            <a:ext cx="2710440" cy="581400"/>
          </a:xfrm>
          <a:prstGeom prst="rect">
            <a:avLst/>
          </a:prstGeom>
          <a:solidFill>
            <a:srgbClr val="0033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carb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3924000" y="4365360"/>
            <a:ext cx="2663640" cy="115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4437000"/>
            <a:ext cx="2108160" cy="2043720"/>
          </a:xfrm>
          <a:prstGeom prst="rect">
            <a:avLst/>
          </a:prstGeom>
          <a:solidFill>
            <a:srgbClr val="0033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elements 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hat does the atomic number tell u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96000" cy="49244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atomic number tells us how many protons an element’s atom has. This is the same as the number of electron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o carbon has 6 electron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odium’s atomic number is 11. So it has 11 electron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xygen has an atomic number of 8. how many electrons does it have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ow many electrons does chlorine hav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ich has more electrons bromine or calcium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8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ectron Shell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557360"/>
            <a:ext cx="5111640" cy="482436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27520" y="3743280"/>
            <a:ext cx="185400" cy="18108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35120" y="2527200"/>
            <a:ext cx="2957400" cy="2867040"/>
          </a:xfrm>
          <a:prstGeom prst="ellipse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27520" y="3924360"/>
            <a:ext cx="185400" cy="18252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12920" y="3924360"/>
            <a:ext cx="185760" cy="18252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97200" y="3924360"/>
            <a:ext cx="185760" cy="18252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81240" y="4170240"/>
            <a:ext cx="184320" cy="17964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87720" y="4010040"/>
            <a:ext cx="185760" cy="18108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70160" y="4081320"/>
            <a:ext cx="185760" cy="18108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00240" y="3809880"/>
            <a:ext cx="185760" cy="18108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3070080"/>
            <a:ext cx="1820880" cy="1803600"/>
          </a:xfrm>
          <a:prstGeom prst="ellipse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89000" y="2003400"/>
            <a:ext cx="3986280" cy="3921120"/>
          </a:xfrm>
          <a:prstGeom prst="ellipse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48040" y="4056120"/>
            <a:ext cx="185760" cy="17928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57560" y="3860640"/>
            <a:ext cx="185760" cy="18288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73400" y="3757680"/>
            <a:ext cx="185760" cy="18252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51160" y="3807000"/>
            <a:ext cx="185760" cy="18252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4880" y="3691080"/>
            <a:ext cx="185760" cy="182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13000" y="3929040"/>
            <a:ext cx="185760" cy="182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56040" y="4102200"/>
            <a:ext cx="185760" cy="180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62160" y="3843360"/>
            <a:ext cx="185760" cy="181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8320" y="4035600"/>
            <a:ext cx="185760" cy="180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62160" y="4029120"/>
            <a:ext cx="185760" cy="182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30680" y="3983040"/>
            <a:ext cx="183960" cy="182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2920" y="1989000"/>
            <a:ext cx="3097080" cy="2043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99ff"/>
              </a:gs>
            </a:gsLst>
            <a:lin ang="5400000"/>
          </a:gra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electron she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ve up to two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4653000"/>
            <a:ext cx="18576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57520" y="3068640"/>
            <a:ext cx="18576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2338560"/>
            <a:ext cx="3097440" cy="2043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99ff"/>
              </a:gs>
            </a:gsLst>
            <a:lin ang="5400000"/>
          </a:gra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electron she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ve up to eight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5084640"/>
            <a:ext cx="18576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85880" y="5229360"/>
            <a:ext cx="18576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22600" y="4541760"/>
            <a:ext cx="18540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57880" y="4076640"/>
            <a:ext cx="18540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70240" y="2997360"/>
            <a:ext cx="18576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2421000"/>
            <a:ext cx="18576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82960" y="2741760"/>
            <a:ext cx="18540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3645000"/>
            <a:ext cx="18576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2708280"/>
            <a:ext cx="3097080" cy="2043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99ff"/>
              </a:gs>
            </a:gsLst>
            <a:lin ang="5400000"/>
          </a:gra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ird electron she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ve up to eight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5622840"/>
            <a:ext cx="18576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18240" y="4653000"/>
            <a:ext cx="18540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3213000"/>
            <a:ext cx="18576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51280" y="2133720"/>
            <a:ext cx="18576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2022480"/>
            <a:ext cx="18576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3068640"/>
            <a:ext cx="18576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8000" y="5551560"/>
            <a:ext cx="18576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4365720"/>
            <a:ext cx="18576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716360" y="3357720"/>
            <a:ext cx="302436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rbon’s Electron Shell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36360" y="1916280"/>
            <a:ext cx="4248000" cy="417672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47960" y="3808440"/>
            <a:ext cx="153720" cy="15696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74800" y="2755800"/>
            <a:ext cx="2457360" cy="2481480"/>
          </a:xfrm>
          <a:prstGeom prst="ellipse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7960" y="3965400"/>
            <a:ext cx="153720" cy="15732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01680" y="3965400"/>
            <a:ext cx="154080" cy="15732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9960" y="3965400"/>
            <a:ext cx="154080" cy="15732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75040" y="4178160"/>
            <a:ext cx="153720" cy="15588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81160" y="4038480"/>
            <a:ext cx="154080" cy="15732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49560" y="4100400"/>
            <a:ext cx="155520" cy="15876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08080" y="3865680"/>
            <a:ext cx="154080" cy="15696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20840" y="3220920"/>
            <a:ext cx="1512720" cy="1562040"/>
          </a:xfrm>
          <a:prstGeom prst="ellipse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0840" y="2301840"/>
            <a:ext cx="3311280" cy="3395520"/>
          </a:xfrm>
          <a:prstGeom prst="ellipse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65240" y="4078440"/>
            <a:ext cx="154080" cy="15552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9840" y="3909960"/>
            <a:ext cx="154080" cy="15732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52800" y="3821040"/>
            <a:ext cx="153720" cy="15732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16160" y="3863880"/>
            <a:ext cx="155520" cy="157320"/>
          </a:xfrm>
          <a:prstGeom prst="ellipse">
            <a:avLst/>
          </a:prstGeom>
          <a:gradFill rotWithShape="0">
            <a:gsLst>
              <a:gs pos="0">
                <a:srgbClr val="feb8b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46240" y="3763800"/>
            <a:ext cx="154080" cy="157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85920" y="3970440"/>
            <a:ext cx="154080" cy="1569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4160" y="4119480"/>
            <a:ext cx="154080" cy="157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60640" y="3894120"/>
            <a:ext cx="154080" cy="1587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81240" y="4060800"/>
            <a:ext cx="154080" cy="157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60640" y="4056120"/>
            <a:ext cx="154080" cy="1587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66960" y="4016520"/>
            <a:ext cx="154080" cy="1587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2060640"/>
            <a:ext cx="2755800" cy="106884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has 6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9280" y="4581360"/>
            <a:ext cx="2755800" cy="155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electrons can go in the first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35640" y="3573360"/>
            <a:ext cx="18576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99320" y="3573360"/>
            <a:ext cx="18540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72360" y="3573360"/>
            <a:ext cx="18576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34240" y="3573360"/>
            <a:ext cx="18576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2360" y="3573360"/>
            <a:ext cx="18576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38960" y="3573360"/>
            <a:ext cx="185760" cy="182520"/>
          </a:xfrm>
          <a:prstGeom prst="ellipse">
            <a:avLst/>
          </a:prstGeom>
          <a:gradFill rotWithShape="0">
            <a:gsLst>
              <a:gs pos="0">
                <a:srgbClr val="cbdecc"/>
              </a:gs>
              <a:gs pos="100000">
                <a:srgbClr val="468a4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40200" y="4581360"/>
            <a:ext cx="2756160" cy="106884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our electrons l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59280" y="4581360"/>
            <a:ext cx="2755800" cy="155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go into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48360" y="3141720"/>
            <a:ext cx="3276360" cy="15562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ron configuration is written as 2.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23854 0.08125 E">
                                      <p:cBhvr>
                                        <p:cTn id="69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-0.45677 0.02083 E">
                                      <p:cBhvr>
                                        <p:cTn id="696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4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5.55556E-006 L -0.31494 0.1574 E">
                                      <p:cBhvr>
                                        <p:cTn id="72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-0.55347 0.20718 E">
                                      <p:cBhvr>
                                        <p:cTn id="732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5.55556E-006 L -0.66146 0.03148 E">
                                      <p:cBhvr>
                                        <p:cTn id="73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22222E-006 L -0.5118 -0.10509 E">
                                      <p:cBhvr>
                                        <p:cTn id="740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8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uter shel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electrons in the outer shell of an atom is the same as the group of the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carbon has four electrons in its outer shell and it is in group f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8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8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8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8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13:46:20Z</dcterms:created>
  <dc:creator>JROBERTS</dc:creator>
  <dc:description/>
  <dc:language>en-US</dc:language>
  <cp:lastModifiedBy>Brett Laniosh</cp:lastModifiedBy>
  <dcterms:modified xsi:type="dcterms:W3CDTF">2005-04-18T09:36:56Z</dcterms:modified>
  <cp:revision>8</cp:revision>
  <dc:subject/>
  <dc:title>The atom</dc:title>
</cp:coreProperties>
</file>