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7EB6-01A0-4F1A-AE8E-8830B1A90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D50C-420D-45C7-896B-CCA0E8281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406A-E8BF-4767-921A-AB7E49C65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8EF6-5902-4208-B4E9-78F95E76D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089B-B9F5-402D-9256-42D24C0A9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0DF5-E7CF-443A-8D96-604E8D680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CFD1-970B-47DB-8AAB-F1C09BAC1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9D0B-CF67-4347-B992-A229493C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301F-2261-4C4F-851A-8BD4697ED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2F44-C4C2-402D-B3FF-9135B725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852B-2C9A-4740-9479-E409C97F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99B8-5381-42B5-BEA6-1ECED399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59D24-934A-4371-BD22-55B14C09D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ferl.becta.org.uk/content_files/resources/organisations/Edukate/Teachingresources/thermal_decomp.swf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cal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xidation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solidFill>
            <a:srgbClr val="ccffcc"/>
          </a:solidFill>
          <a:ln w="5724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dation is a reaction where oxygen is ga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30960" y="3645000"/>
            <a:ext cx="2962080" cy="520560"/>
          </a:xfrm>
          <a:prstGeom prst="rect">
            <a:avLst/>
          </a:prstGeom>
          <a:solidFill>
            <a:srgbClr val="00ff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lphur + oxy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067280" y="3429000"/>
            <a:ext cx="1008000" cy="1079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250960" y="3645000"/>
            <a:ext cx="2635920" cy="520560"/>
          </a:xfrm>
          <a:prstGeom prst="rect">
            <a:avLst/>
          </a:prstGeom>
          <a:solidFill>
            <a:srgbClr val="00ff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lphur di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9440" y="4869000"/>
            <a:ext cx="1295640" cy="12952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lph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19280" y="4869000"/>
            <a:ext cx="1295280" cy="1295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916360" y="4869000"/>
            <a:ext cx="1295280" cy="1295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1.48148E-006 C 0.0283 -0.00278 0.05348 -0.01042 0.0816 -0.01389 C 0.09775 -0.02107 0.11216 -0.02385 0.12882 -0.02801 C 0.16459 -0.03681 0.20052 -0.04838 0.23681 -0.05255 C 0.27275 -0.05672 0.33577 -0.05834 0.3658 -0.05949 C 0.37639 -0.06181 0.3875 -0.06135 0.3974 -0.06667 C 0.40174 -0.06898 0.40591 -0.07223 0.41042 -0.07361 C 0.4257 -0.07871 0.44236 -0.07986 0.45782 -0.08403 C 0.53351 -0.08125 0.53039 -0.08264 0.57882 -0.07361 C 0.60226 -0.06343 0.56302 -0.07986 0.60521 -0.06667 C 0.61424 -0.06389 0.62275 -0.05903 0.63143 -0.05602 C 0.64045 -0.05023 0.64844 -0.04769 0.65521 -0.03843 C 0.65608 -0.03496 0.65712 -0.03148 0.65782 -0.02801 C 0.65886 -0.02338 0.66042 -0.01389 0.66042 -0.01389 E">
                                      <p:cBhvr>
                                        <p:cTn id="428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1.85185E-006 L 0.36232 -0.01042 E">
                                      <p:cBhvr>
                                        <p:cTn id="431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85185E-006 L 0.48819 -0.01042 E">
                                      <p:cBhvr>
                                        <p:cTn id="433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duction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81160"/>
          </a:xfrm>
          <a:prstGeom prst="rect">
            <a:avLst/>
          </a:prstGeom>
          <a:solidFill>
            <a:srgbClr val="00ffff"/>
          </a:solidFill>
          <a:ln w="5724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duction reaction is when oxygen is lost in a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74600" y="3645000"/>
            <a:ext cx="2298960" cy="520560"/>
          </a:xfrm>
          <a:prstGeom prst="rect">
            <a:avLst/>
          </a:prstGeom>
          <a:solidFill>
            <a:srgbClr val="00ff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per 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95640" y="3429000"/>
            <a:ext cx="1008000" cy="1079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649480" y="3645000"/>
            <a:ext cx="1348200" cy="520560"/>
          </a:xfrm>
          <a:prstGeom prst="rect">
            <a:avLst/>
          </a:prstGeom>
          <a:solidFill>
            <a:srgbClr val="00ff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3640" y="494172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00720" y="4941720"/>
            <a:ext cx="1295280" cy="1295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163 -0.00301 0.02257 -0.00741 0.0342 -0.01042 C 0.0467 -0.0206 0.05746 -0.02431 0.07101 -0.03148 C 0.08003 -0.04306 0.09028 -0.04282 0.1026 -0.0456 C 0.12639 -0.04167 0.12031 -0.04954 0.1316 -0.02801 C 0.13524 -0.02107 0.14201 -0.00695 0.14201 -0.00695 C 0.13767 0.0162 0.13819 0.01551 0.12101 0.02454 C 0.12187 0.01759 0.12135 0.00995 0.12361 0.00347 C 0.12621 -0.00417 0.14531 -0.01875 0.14739 -0.02107 C 0.17569 -0.05324 0.15382 -0.04167 0.17899 -0.04907 C 0.18246 -0.05 0.18594 -0.05139 0.18941 -0.05255 C 0.19653 -0.05139 0.20364 -0.05139 0.21059 -0.04907 C 0.22604 -0.04398 0.23576 -0.02292 0.24479 -0.00695 C 0.25139 0.06366 0.24479 -0.02454 0.24479 0.05278 C 0.24479 0.05995 0.24548 0.03843 0.24739 0.03171 C 0.24965 0.02384 0.26215 0.01875 0.2658 0.01759 C 0.27795 0.01389 0.32083 0.01111 0.32639 0.01065 C 0.34323 0.01343 0.35469 0.00926 0.36059 0.03171 C 0.35798 0.05093 0.35451 0.0625 0.35 0.08079 C 0.34878 0.08542 0.34375 0.09491 0.34739 0.09491 C 0.35173 0.09491 0.35208 0.08495 0.35521 0.08079 C 0.35833 0.07662 0.36233 0.07361 0.3658 0.07014 C 0.37726 0.07245 0.38906 0.07268 0.4 0.07731 C 0.41007 0.08148 0.41319 0.11574 0.41319 0.11574 C 0.41233 0.12523 0.4092 0.13472 0.41059 0.14398 C 0.41128 0.14815 0.41285 0.13495 0.4158 0.13333 C 0.42239 0.12986 0.42986 0.13102 0.4368 0.12986 C 0.45364 0.10741 0.45851 0.10694 0.4816 0.10185 C 0.4842 0.10069 0.4868 0.09722 0.48941 0.09838 C 0.50017 0.10324 0.50104 0.12801 0.5026 0.1368 C 0.50347 0.14143 0.50521 0.15093 0.50521 0.15093 C 0.50903 0.13565 0.5059 0.14305 0.5158 0.12986 C 0.52101 0.13565 0.5283 0.13935 0.5316 0.14745 C 0.5401 0.16852 0.52899 0.22824 0.55 0.24213 E">
                                      <p:cBhvr>
                                        <p:cTn id="485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6360" y="4365720"/>
            <a:ext cx="914400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splacement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84440"/>
          </a:xfrm>
          <a:prstGeom prst="rect">
            <a:avLst/>
          </a:prstGeom>
          <a:solidFill>
            <a:srgbClr val="99ccff"/>
          </a:solidFill>
          <a:ln w="57240">
            <a:solidFill>
              <a:srgbClr val="33cc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where a more reactive element displaces a less reactive element from its comp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33280" y="4581360"/>
            <a:ext cx="431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Garamond"/>
              </a:rPr>
              <a:t>Iron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copper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sulph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18360" y="45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cop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084560" y="4646520"/>
            <a:ext cx="647640" cy="505080"/>
          </a:xfrm>
          <a:prstGeom prst="rightArrow">
            <a:avLst>
              <a:gd name="adj1" fmla="val 50000"/>
              <a:gd name="adj2" fmla="val 3205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950000" y="457344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Garamond"/>
              </a:rPr>
              <a:t>I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958000" y="45734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365240" y="4573440"/>
            <a:ext cx="184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sulph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4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348 -0.00463 0.00782 -0.00856 0.01059 -0.01412 C 0.01788 -0.02801 0.01823 -0.03819 0.02379 -0.05278 C 0.02518 -0.05648 0.02743 -0.05972 0.029 -0.06319 C 0.03177 -0.06898 0.03455 -0.07477 0.03681 -0.08079 C 0.03802 -0.08403 0.03768 -0.08819 0.03941 -0.0912 C 0.04323 -0.09792 0.04827 -0.10301 0.05261 -0.1088 C 0.06129 -0.12037 0.05382 -0.11967 0.0658 -0.12639 C 0.0691 -0.12824 0.07292 -0.1287 0.07639 -0.12986 C 0.08959 -0.1287 0.10278 -0.12824 0.1158 -0.12639 C 0.125 -0.125 0.13351 -0.11597 0.14219 -0.11227 C 0.15035 -0.10509 0.15365 -0.09653 0.16059 -0.08773 C 0.16598 -0.06643 0.1724 -0.04653 0.17639 -0.02454 C 0.17552 -0.01875 0.17691 -0.01111 0.17379 -0.00694 C 0.17205 -0.00463 0.17084 -0.01528 0.16841 -0.01412 C 0.1658 -0.01296 0.16667 -0.00694 0.1658 -0.00347 C 0.16407 -0.0081 0.16111 -0.0125 0.16059 -0.01759 C 0.16025 -0.0213 0.16059 -0.02708 0.1632 -0.02801 C 0.16615 -0.02893 0.16841 -0.02338 0.17101 -0.02106 C 0.17188 -0.01759 0.1757 -0.0081 0.17379 -0.01065 C 0.17101 -0.01435 0.16893 -0.01944 0.16841 -0.02454 C 0.16788 -0.0294 0.17014 -0.03403 0.17101 -0.03866 C 0.17205 -0.03171 0.17795 -0.00602 0.17101 0 C 0.16771 0.00278 0.16754 -0.00949 0.1658 -0.01412 C 0.16493 -0.01991 0.1632 -0.02569 0.1632 -0.03171 C 0.1632 -0.03657 0.16337 -0.04907 0.1658 -0.0456 C 0.16945 -0.04051 0.16719 -0.03148 0.16841 -0.02454 C 0.16997 -0.01551 0.17552 -0.00208 0.1658 -0.02801 C 0.16667 -0.03148 0.16563 -0.03866 0.16841 -0.03866 C 0.17118 -0.03866 0.17014 -0.03148 0.17101 -0.02801 C 0.17327 -0.01782 0.17639 -0.00717 0.17639 0.00347 E">
                                      <p:cBhvr>
                                        <p:cTn id="542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6 C 0.00452 0.01783 0.00608 0.03357 0.00781 0.05255 C 0.00729 0.0581 0.00469 0.09607 0.00261 0.10533 C 0.00156 0.11019 -0.00121 0.11435 -0.0026 0.11921 C -0.00382 0.12384 -0.0033 0.1294 -0.00538 0.13333 C -0.00712 0.13681 -0.01059 0.13796 -0.01319 0.14028 C -0.01493 0.14375 -0.0158 0.14861 -0.0184 0.15093 C -0.02482 0.15695 -0.03958 0.16482 -0.03958 0.16482 C -0.05104 0.16366 -0.06267 0.16482 -0.07378 0.16134 C -0.08142 0.15903 -0.08715 0.14931 -0.09479 0.14722 C -0.09913 0.14607 -0.10364 0.14491 -0.10798 0.14375 C -0.12708 0.12708 -0.11823 0.1338 -0.1342 0.12269 C -0.13871 0.11134 -0.14479 0.10347 -0.14739 0.0912 C -0.15069 0.07593 -0.14896 0.05741 -0.15798 0.0456 C -0.16024 0.04259 -0.16337 0.0412 -0.1658 0.03866 C -0.17413 0.02963 -0.16875 0.03287 -0.17639 0.02107 C -0.17969 0.01597 -0.18698 0.00695 -0.18698 0.00695 C -0.18073 -0.00116 -0.18333 0.00232 -0.17899 -0.00347 E">
                                      <p:cBhvr>
                                        <p:cTn id="545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splacement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56000" y="1413000"/>
            <a:ext cx="374796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ndothermic and exotherm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8116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fefefe"/>
              </a:gs>
            </a:gsLst>
            <a:lin ang="5400000"/>
          </a:gradFill>
          <a:ln w="572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othermic reaction is a reaction which gives out heat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ndothermic reaction is a reaction which takes in heat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00000" y="5013360"/>
            <a:ext cx="7632720" cy="1440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cc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emical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12920" y="1420920"/>
            <a:ext cx="8551800" cy="30186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bbe0e3"/>
              </a:gs>
            </a:gsLst>
            <a:lin ang="54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hemical reaction is when a ___ substance has been made. The chemicals that react are called ________. A chemical reaction may have occurred if there is a colour ______, a change in __________ or if _____ is observed ( this is because a ___ is produce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36360" y="5737320"/>
            <a:ext cx="83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92720" y="5740560"/>
            <a:ext cx="23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03280" y="5157720"/>
            <a:ext cx="18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t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78200" y="5157720"/>
            <a:ext cx="13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zz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69000" y="5740560"/>
            <a:ext cx="9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50560" y="516096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33333E-006 L -0.06719 -0.63125 E">
                                      <p:cBhvr>
                                        <p:cTn id="6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1.48148E-006 L 0.0394 -0.39907 E">
                                      <p:cBhvr>
                                        <p:cTn id="13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07407E-006 L 0.33472 -0.33658 E">
                                      <p:cBhvr>
                                        <p:cTn id="20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33333E-006 L -0.06667 -0.34769 E">
                                      <p:cBhvr>
                                        <p:cTn id="27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96296E-006 L 0.04167 -0.26273 E">
                                      <p:cBhvr>
                                        <p:cTn id="34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3.7037E-006 L 0.41094 -0.27361 E">
                                      <p:cBhvr>
                                        <p:cTn id="41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4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4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Chemical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Physi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72080" y="1484280"/>
            <a:ext cx="1732320" cy="642600"/>
          </a:xfrm>
          <a:prstGeom prst="rect">
            <a:avLst/>
          </a:prstGeom>
          <a:gradFill rotWithShape="0">
            <a:gsLst>
              <a:gs pos="0">
                <a:srgbClr val="2f4675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us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72440" y="2298600"/>
            <a:ext cx="2392200" cy="642600"/>
          </a:xfrm>
          <a:prstGeom prst="rect">
            <a:avLst/>
          </a:prstGeom>
          <a:gradFill rotWithShape="0">
            <a:gsLst>
              <a:gs pos="0">
                <a:srgbClr val="2f4675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ce mel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83240" y="3117960"/>
            <a:ext cx="3484800" cy="1191240"/>
          </a:xfrm>
          <a:prstGeom prst="rect">
            <a:avLst/>
          </a:prstGeom>
          <a:gradFill rotWithShape="0">
            <a:gsLst>
              <a:gs pos="0">
                <a:srgbClr val="2f4675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dding water t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range squ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82160" y="4508640"/>
            <a:ext cx="4147560" cy="642600"/>
          </a:xfrm>
          <a:prstGeom prst="rect">
            <a:avLst/>
          </a:prstGeom>
          <a:gradFill rotWithShape="0">
            <a:gsLst>
              <a:gs pos="0">
                <a:srgbClr val="2f4675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rning natural 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92240" y="5322960"/>
            <a:ext cx="2850840" cy="642600"/>
          </a:xfrm>
          <a:prstGeom prst="rect">
            <a:avLst/>
          </a:prstGeom>
          <a:gradFill rotWithShape="0">
            <a:gsLst>
              <a:gs pos="0">
                <a:srgbClr val="2f4675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king g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91520" y="6114960"/>
            <a:ext cx="4173480" cy="642600"/>
          </a:xfrm>
          <a:prstGeom prst="rect">
            <a:avLst/>
          </a:prstGeom>
          <a:gradFill rotWithShape="0">
            <a:gsLst>
              <a:gs pos="0">
                <a:srgbClr val="2f4675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ndle wax mel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99560" y="4508640"/>
            <a:ext cx="2088720" cy="6426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0000"/>
              </a:gs>
            </a:gsLst>
            <a:lin ang="5400000"/>
          </a:gradFill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emic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99560" y="1484280"/>
            <a:ext cx="2088720" cy="6426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0000"/>
              </a:gs>
            </a:gsLst>
            <a:lin ang="5400000"/>
          </a:gradFill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emic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99560" y="5322960"/>
            <a:ext cx="2088720" cy="6426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0000"/>
              </a:gs>
            </a:gsLst>
            <a:lin ang="5400000"/>
          </a:gradFill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emic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86960" y="2276640"/>
            <a:ext cx="1884600" cy="64260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cc00cc"/>
              </a:gs>
            </a:gsLst>
            <a:lin ang="54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85520" y="3451320"/>
            <a:ext cx="1884600" cy="64260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cc00cc"/>
              </a:gs>
            </a:gsLst>
            <a:lin ang="54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86960" y="6165720"/>
            <a:ext cx="1884600" cy="64260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cc00cc"/>
              </a:gs>
            </a:gsLst>
            <a:lin ang="54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8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8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66"/>
                                      </p:to>
                                    </p:animClr>
                                    <p:set>
                                      <p:cBhvr>
                                        <p:cTn id="10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8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66"/>
                                      </p:to>
                                    </p:animClr>
                                    <p:set>
                                      <p:cBhvr>
                                        <p:cTn id="11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8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4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8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66"/>
                                      </p:to>
                                    </p:animClr>
                                    <p:set>
                                      <p:cBhvr>
                                        <p:cTn id="15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8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s of chemical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781520"/>
          </a:xfrm>
          <a:prstGeom prst="rect">
            <a:avLst/>
          </a:prstGeom>
          <a:gradFill rotWithShape="0">
            <a:gsLst>
              <a:gs pos="0">
                <a:srgbClr val="00cc66"/>
              </a:gs>
              <a:gs pos="100000">
                <a:srgbClr val="ff66f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tral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mal decom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cip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la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other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ther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cipi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1757520"/>
          </a:xfrm>
          <a:prstGeom prst="rect">
            <a:avLst/>
          </a:prstGeom>
          <a:solidFill>
            <a:srgbClr val="ff66ff"/>
          </a:solidFill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where two solutions are mixed and a solid which does not dissolve in water is produ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19960" y="3913200"/>
            <a:ext cx="8857080" cy="1982160"/>
            <a:chOff x="219960" y="3913200"/>
            <a:chExt cx="8857080" cy="1982160"/>
          </a:xfrm>
        </p:grpSpPr>
        <p:sp>
          <p:nvSpPr>
            <p:cNvPr id="70" name=""/>
            <p:cNvSpPr/>
            <p:nvPr/>
          </p:nvSpPr>
          <p:spPr>
            <a:xfrm>
              <a:off x="219960" y="3913200"/>
              <a:ext cx="5322600" cy="45972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ead nitrate (aq) + Sodium iodide (aq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995640" y="4579920"/>
              <a:ext cx="1368360" cy="720720"/>
            </a:xfrm>
            <a:prstGeom prst="rightArrow">
              <a:avLst>
                <a:gd name="adj1" fmla="val 50000"/>
                <a:gd name="adj2" fmla="val 4746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940200" y="5435640"/>
              <a:ext cx="5136840" cy="45972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ead iodide (s) + Sodium nitrate (aq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rmation of lead iod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114640" y="1989000"/>
            <a:ext cx="4914720" cy="3686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124000" y="1989000"/>
            <a:ext cx="4915080" cy="3686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2114640" y="1989000"/>
            <a:ext cx="4914720" cy="36864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2114640" y="1974960"/>
            <a:ext cx="4914720" cy="36860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2114640" y="1989000"/>
            <a:ext cx="4914720" cy="36864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2114640" y="1989000"/>
            <a:ext cx="4914720" cy="36864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7"/>
          <a:stretch/>
        </p:blipFill>
        <p:spPr>
          <a:xfrm>
            <a:off x="2114640" y="1989000"/>
            <a:ext cx="4914720" cy="36864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8"/>
          <a:stretch/>
        </p:blipFill>
        <p:spPr>
          <a:xfrm>
            <a:off x="2114640" y="1974960"/>
            <a:ext cx="4914720" cy="36860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9"/>
          <a:stretch/>
        </p:blipFill>
        <p:spPr>
          <a:xfrm>
            <a:off x="2114640" y="1989000"/>
            <a:ext cx="4914720" cy="36864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0"/>
          <a:stretch/>
        </p:blipFill>
        <p:spPr>
          <a:xfrm>
            <a:off x="2114640" y="1974960"/>
            <a:ext cx="491472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00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0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600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00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00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9000"/>
                            </p:stCondLst>
                            <p:childTnLst>
                              <p:par>
                                <p:cTn id="2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rmal Decom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1468440"/>
          </a:xfrm>
          <a:prstGeom prst="rect">
            <a:avLst/>
          </a:prstGeom>
          <a:solidFill>
            <a:srgbClr val="ccffff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mal decomposition is a reaction where heat breaks down a chemical into smaller 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77280" y="4005360"/>
            <a:ext cx="1823760" cy="520560"/>
          </a:xfrm>
          <a:prstGeom prst="rect">
            <a:avLst/>
          </a:prstGeom>
          <a:solidFill>
            <a:srgbClr val="ccffcc"/>
          </a:solidFill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est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51280" y="3718080"/>
            <a:ext cx="1512720" cy="1223640"/>
          </a:xfrm>
          <a:prstGeom prst="rightArrow">
            <a:avLst>
              <a:gd name="adj1" fmla="val 50000"/>
              <a:gd name="adj2" fmla="val 30906"/>
            </a:avLst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09920" y="4005360"/>
            <a:ext cx="951840" cy="520560"/>
          </a:xfrm>
          <a:prstGeom prst="rect">
            <a:avLst/>
          </a:prstGeom>
          <a:solidFill>
            <a:srgbClr val="ccffcc"/>
          </a:solidFill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76920" y="5157720"/>
            <a:ext cx="1765800" cy="947160"/>
          </a:xfrm>
          <a:prstGeom prst="rect">
            <a:avLst/>
          </a:prstGeom>
          <a:solidFill>
            <a:srgbClr val="ccffcc"/>
          </a:solidFill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83120" y="5162400"/>
            <a:ext cx="1465560" cy="947160"/>
          </a:xfrm>
          <a:prstGeom prst="rect">
            <a:avLst/>
          </a:prstGeom>
          <a:solidFill>
            <a:srgbClr val="ccffcc"/>
          </a:solidFill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51280" y="5084640"/>
            <a:ext cx="1512720" cy="1224000"/>
          </a:xfrm>
          <a:prstGeom prst="rightArrow">
            <a:avLst>
              <a:gd name="adj1" fmla="val 50000"/>
              <a:gd name="adj2" fmla="val 30897"/>
            </a:avLst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rmal decom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1"/>
          </p:cNvPr>
          <p:cNvSpPr/>
          <p:nvPr/>
        </p:nvSpPr>
        <p:spPr>
          <a:xfrm>
            <a:off x="1547640" y="2565360"/>
            <a:ext cx="6120000" cy="1739880"/>
          </a:xfrm>
          <a:prstGeom prst="rect">
            <a:avLst/>
          </a:prstGeom>
          <a:solidFill>
            <a:srgbClr val="ff9900"/>
          </a:solidFill>
          <a:ln w="572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ctical to show the thermal decomposition of copper carbon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utra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612800"/>
          </a:xfrm>
          <a:prstGeom prst="rect">
            <a:avLst/>
          </a:prstGeom>
          <a:solidFill>
            <a:srgbClr val="cc99ff"/>
          </a:solidFill>
          <a:ln w="572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tralisation is a reaction between an acid and an alkali. It forms a neutral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9400" y="4149720"/>
            <a:ext cx="5250960" cy="459720"/>
          </a:xfrm>
          <a:prstGeom prst="rect">
            <a:avLst/>
          </a:prstGeom>
          <a:solidFill>
            <a:srgbClr val="ff99cc"/>
          </a:solid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ochloric acid + sodium hydr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97440" y="4797360"/>
            <a:ext cx="2087280" cy="792360"/>
          </a:xfrm>
          <a:prstGeom prst="rightArrow">
            <a:avLst>
              <a:gd name="adj1" fmla="val 50000"/>
              <a:gd name="adj2" fmla="val 6585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98160" y="5722920"/>
            <a:ext cx="3457440" cy="459720"/>
          </a:xfrm>
          <a:prstGeom prst="rect">
            <a:avLst/>
          </a:prstGeom>
          <a:solidFill>
            <a:srgbClr val="ff99cc"/>
          </a:solid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dium chloride +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1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4T10:34:22Z</dcterms:created>
  <dc:creator>JROBERTS</dc:creator>
  <dc:description/>
  <dc:language>en-US</dc:language>
  <cp:lastModifiedBy>Brett Laniosh</cp:lastModifiedBy>
  <dcterms:modified xsi:type="dcterms:W3CDTF">2005-04-18T09:30:51Z</dcterms:modified>
  <cp:revision>9</cp:revision>
  <dc:subject/>
  <dc:title>Chemical Reactions</dc:title>
</cp:coreProperties>
</file>