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14BD-6CD3-47D9-ABF1-6BD7938C3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B22C-4763-4BF8-BB5C-62DBF2D7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A4EB-B649-4928-B1A5-8FD29D393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A171-8B2B-4E73-955A-F432FFB2C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F376-0DA0-4035-9806-E5C7B8A67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D927-31EF-4523-99B4-4964B6AE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3ACD-766B-4AF8-BF01-F48401FF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B1DA-4664-4E31-BD6A-6AB7AE1B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26CF-2267-4A5E-BC44-8A98A23A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7AE9-ED7F-439C-98BB-BCE2CDA8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9A7B-F55C-4997-99EA-84A5DABB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89D3-A7C9-40A8-A3B4-12A1E621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58CF-5484-4760-B1AB-398F8352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1FAF-F45F-4AE1-B9C1-C6AEC7C0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A316-16F4-43C6-8D80-1CA322C2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8C2F-AA37-44AA-9769-C4A80617E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912C-5E27-49A3-BCB6-35922A691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4B4B-50C2-4517-8E85-4E0A116A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E0F4-AADB-4C70-9551-176A8BBB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1430-6DFA-4A87-8DC3-1F37B40A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6ABD-6066-4810-95D9-6DB48684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DC38-2C71-4FF1-9266-4C3BBB9B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E282-90DE-4CFE-AC9E-072AD08D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8FB2-BE26-4FFF-AA4E-D8AAD1E6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3614-17ED-4A8F-941F-F39D409851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6AD1-4726-4925-9FE2-BEE309CBC9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etals and Non-metal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can be found in different sections of the periodic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tals are found to the le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on-metals are found to the r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720" y="115920"/>
            <a:ext cx="59259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etals and non metal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39640" y="1793880"/>
            <a:ext cx="7848720" cy="46594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796000" y="3141720"/>
            <a:ext cx="431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314172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27640" y="357336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88000" y="3573360"/>
            <a:ext cx="0" cy="43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88000" y="4005360"/>
            <a:ext cx="43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20000" y="400536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20000" y="4365720"/>
            <a:ext cx="431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451640" y="436572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867280" y="115920"/>
            <a:ext cx="3276720" cy="2043720"/>
          </a:xfrm>
          <a:prstGeom prst="rect">
            <a:avLst/>
          </a:prstGeom>
          <a:solidFill>
            <a:srgbClr val="00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line between the metals and non-met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eriods and group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ows of the periodic table are called periods. Hydrogen and helium are in period one. Period two starts with lithium and so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lumns are called groups. The elements in the same group have similar chemical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252360" y="260280"/>
            <a:ext cx="5557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eriods and group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9640" y="1793880"/>
            <a:ext cx="7848720" cy="4659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71640" y="2349360"/>
            <a:ext cx="431640" cy="4320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812000" y="2349360"/>
            <a:ext cx="432000" cy="432000"/>
          </a:xfrm>
          <a:prstGeom prst="rect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24360" y="333360"/>
            <a:ext cx="2468880" cy="1068840"/>
          </a:xfrm>
          <a:prstGeom prst="rect">
            <a:avLst/>
          </a:prstGeom>
          <a:solidFill>
            <a:srgbClr val="ffcc99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eriod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33360"/>
            <a:ext cx="2468880" cy="1068840"/>
          </a:xfrm>
          <a:prstGeom prst="rect">
            <a:avLst/>
          </a:prstGeom>
          <a:solidFill>
            <a:srgbClr val="ccffcc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eriod tw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71640" y="2781360"/>
            <a:ext cx="792000" cy="36036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96000" y="2781360"/>
            <a:ext cx="2448000" cy="36036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4360" y="333360"/>
            <a:ext cx="2468880" cy="1068840"/>
          </a:xfrm>
          <a:prstGeom prst="rect">
            <a:avLst/>
          </a:prstGeom>
          <a:solidFill>
            <a:srgbClr val="cc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ight period f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3573360"/>
            <a:ext cx="7272360" cy="432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39640" y="1793880"/>
            <a:ext cx="7848720" cy="4659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-252360" y="260280"/>
            <a:ext cx="55576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eriods and grou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1557360"/>
            <a:ext cx="469800" cy="520560"/>
          </a:xfrm>
          <a:prstGeom prst="rect">
            <a:avLst/>
          </a:prstGeom>
          <a:solidFill>
            <a:srgbClr val="ff99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2349360"/>
            <a:ext cx="431640" cy="288000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56360" y="260280"/>
            <a:ext cx="2108160" cy="1068840"/>
          </a:xfrm>
          <a:prstGeom prst="rect">
            <a:avLst/>
          </a:prstGeom>
          <a:solidFill>
            <a:srgbClr val="ff99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group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56360" y="260280"/>
            <a:ext cx="2108160" cy="1068840"/>
          </a:xfrm>
          <a:prstGeom prst="rect">
            <a:avLst/>
          </a:prstGeom>
          <a:solidFill>
            <a:srgbClr val="cc99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group tw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65120" y="1557360"/>
            <a:ext cx="470160" cy="520560"/>
          </a:xfrm>
          <a:prstGeom prst="rect">
            <a:avLst/>
          </a:prstGeom>
          <a:solidFill>
            <a:srgbClr val="cc99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03280" y="2781360"/>
            <a:ext cx="360360" cy="244800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2000" y="289080"/>
            <a:ext cx="2323800" cy="1068840"/>
          </a:xfrm>
          <a:prstGeom prst="rect">
            <a:avLst/>
          </a:prstGeom>
          <a:solidFill>
            <a:srgbClr val="99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group th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57840" y="1557360"/>
            <a:ext cx="469800" cy="520560"/>
          </a:xfrm>
          <a:prstGeom prst="rect">
            <a:avLst/>
          </a:prstGeom>
          <a:solidFill>
            <a:srgbClr val="99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000" y="2708280"/>
            <a:ext cx="431640" cy="2089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289080"/>
            <a:ext cx="2323800" cy="106884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ight group s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20000" y="2708280"/>
            <a:ext cx="431640" cy="2089080"/>
          </a:xfrm>
          <a:prstGeom prst="rect">
            <a:avLst/>
          </a:prstGeom>
          <a:solidFill>
            <a:srgbClr val="ff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20000" y="1557360"/>
            <a:ext cx="469800" cy="52056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Group Nam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of the groups have special na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need to know these groups nam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itions met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Your Task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the positions of the follow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itions met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362268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Group nam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9640" y="1793880"/>
            <a:ext cx="7848720" cy="4659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65800" y="352440"/>
            <a:ext cx="2590920" cy="106884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light the alkali met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71640" y="2349360"/>
            <a:ext cx="431640" cy="288000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65800" y="44280"/>
            <a:ext cx="2590920" cy="155628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lkali metals are group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289080"/>
            <a:ext cx="2590920" cy="1068840"/>
          </a:xfrm>
          <a:prstGeom prst="rect">
            <a:avLst/>
          </a:prstGeom>
          <a:solidFill>
            <a:srgbClr val="8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light the halog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2708280"/>
            <a:ext cx="431640" cy="2089080"/>
          </a:xfrm>
          <a:prstGeom prst="rect">
            <a:avLst/>
          </a:prstGeom>
          <a:solidFill>
            <a:srgbClr val="8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65800" y="17640"/>
            <a:ext cx="2590920" cy="1556280"/>
          </a:xfrm>
          <a:prstGeom prst="rect">
            <a:avLst/>
          </a:prstGeom>
          <a:solidFill>
            <a:srgbClr val="8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alogens are group se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64000" y="289080"/>
            <a:ext cx="2590920" cy="1068840"/>
          </a:xfrm>
          <a:prstGeom prst="rect">
            <a:avLst/>
          </a:prstGeom>
          <a:solidFill>
            <a:srgbClr val="ff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light the noble g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812000" y="2349360"/>
            <a:ext cx="432000" cy="244800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64000" y="44280"/>
            <a:ext cx="2590920" cy="1556280"/>
          </a:xfrm>
          <a:prstGeom prst="rect">
            <a:avLst/>
          </a:prstGeom>
          <a:solidFill>
            <a:srgbClr val="ff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oble gases are group e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7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181440" y="228600"/>
            <a:ext cx="57610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transition metal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39640" y="1793880"/>
            <a:ext cx="7848720" cy="46594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508720" y="88920"/>
            <a:ext cx="3456000" cy="1556280"/>
          </a:xfrm>
          <a:prstGeom prst="rect">
            <a:avLst/>
          </a:prstGeom>
          <a:solidFill>
            <a:srgbClr val="00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nsition metals are not a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63640" y="3573360"/>
            <a:ext cx="4032360" cy="7923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95640" y="4365720"/>
            <a:ext cx="3600360" cy="43164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4797360"/>
            <a:ext cx="2447640" cy="43200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115920"/>
            <a:ext cx="3456000" cy="1556280"/>
          </a:xfrm>
          <a:prstGeom prst="rect">
            <a:avLst/>
          </a:prstGeom>
          <a:solidFill>
            <a:srgbClr val="00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between groups two and th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48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etals and Non-metal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makes a metal a met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als have metallic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as many as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10:19:50Z</dcterms:created>
  <dc:creator>JROBERTS</dc:creator>
  <dc:description/>
  <dc:language>en-US</dc:language>
  <cp:lastModifiedBy>Brett Laniosh</cp:lastModifiedBy>
  <dcterms:modified xsi:type="dcterms:W3CDTF">2005-04-18T09:29:17Z</dcterms:modified>
  <cp:revision>5</cp:revision>
  <dc:subject/>
  <dc:title>The Periodic Table</dc:title>
</cp:coreProperties>
</file>